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C5ABA9-A525-4408-9C32-A2530231ED60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8EE6A-4157-48CE-B296-C38077574D82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0492A-157B-4CEF-8661-4B1D055F7A0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D02DCB-F942-496F-A457-BCA09F0B5A8E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2CCD0-FFCD-49A9-A5C0-38F2970541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92B9-4C19-46A1-9E5C-D070A7DD9F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DFE1-D083-4EF9-AF3E-247D0E08C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3ABC2-D1D7-42DB-8E8D-5E5100421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903C-9848-4B1D-99A1-027A21B9B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87F36-E17E-446E-A4D5-D1678C4951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811F-A6CD-44BF-A56D-50FE7B573F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E450F-A27B-43B9-A387-B2D2F21DC2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4C3D1-3058-4FBC-B872-1DF7D25A86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1F3B6-4584-470D-88B9-6FA4FCE6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C6E8D-C704-4A13-8F61-6C42D9535A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20AFE-28B5-4C8D-AF45-52F5C12CD1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407BE-7036-42C7-90B3-C1CABD06490E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14867-3A7B-4375-9F2A-768634F979E3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atvijasdaba.lv/putni/apus-apus-l/" TargetMode="External"/><Relationship Id="rId7" Type="http://schemas.openxmlformats.org/officeDocument/2006/relationships/hyperlink" Target="http://www.latvijasdaba.lv/putni/apus-apus-l/" TargetMode="External"/><Relationship Id="rId8" Type="http://schemas.openxmlformats.org/officeDocument/2006/relationships/hyperlink" Target="http://www.latvijasdaba.lv/putni/apus-apus-l/" TargetMode="External"/><Relationship Id="rId9" Type="http://schemas.openxmlformats.org/officeDocument/2006/relationships/hyperlink" Target="http://www.latvijasdaba.lv/putni/apus-apus-l/" TargetMode="External"/><Relationship Id="rId10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C:\Users\User\AppData\Local\Microsoft\Windows\Temporary Internet Files\Content.IE5\5MBYCT9Z\MC900186210[1].wmf"/>
          <p:cNvPicPr/>
          <p:nvPr/>
        </p:nvPicPr>
        <p:blipFill>
          <a:blip r:embed="rId1"/>
          <a:stretch/>
        </p:blipFill>
        <p:spPr>
          <a:xfrm>
            <a:off x="6732720" y="2421000"/>
            <a:ext cx="1814400" cy="1600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CF631E-A1CF-438C-A870-EB2ABA93BBB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5" descr="Pt1.png"/>
          <p:cNvPicPr/>
          <p:nvPr/>
        </p:nvPicPr>
        <p:blipFill>
          <a:blip r:embed="rId1"/>
          <a:stretch/>
        </p:blipFill>
        <p:spPr>
          <a:xfrm>
            <a:off x="2411280" y="2133720"/>
            <a:ext cx="5935680" cy="4257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F2FB35-7761-4539-BE0A-CBBAC8B8CA7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www.vietas.lv/index.php?p=10&amp;id=10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apus-ap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F0F113-A290-4112-909E-41B439EFDA69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99A8AC-439B-4B02-BD26-F3679582D49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igrā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89FDEB1-43A9-42FF-BE8F-9C11DCA62C5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826560" y="1628640"/>
            <a:ext cx="504036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Apspalvojums rūsgani melns ar nelielu metāliska spīduma piedevu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Pakaklē blāvi netīri balts plankum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Jaunajiem putniem arī citur uz segspalvu galiņiem un lidspalvu maliņām ir baltumi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Content Placeholder 4" descr="svire5.png"/>
          <p:cNvPicPr/>
          <p:nvPr/>
        </p:nvPicPr>
        <p:blipFill>
          <a:blip r:embed="rId1"/>
          <a:stretch/>
        </p:blipFill>
        <p:spPr>
          <a:xfrm>
            <a:off x="5796000" y="1773360"/>
            <a:ext cx="2736720" cy="3944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B0C18AD-7857-48D9-BB88-8C414FE8265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īre ir Latvijā vienīgā sastopamā svīr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ieži tiek jauktas ar bezdelīg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6" descr="svire6.png"/>
          <p:cNvPicPr/>
          <p:nvPr/>
        </p:nvPicPr>
        <p:blipFill>
          <a:blip r:embed="rId1"/>
          <a:stretch/>
        </p:blipFill>
        <p:spPr>
          <a:xfrm>
            <a:off x="1835280" y="3860640"/>
            <a:ext cx="5976720" cy="2617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794588-A9E5-49F9-A5B2-292ADAB93FE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" dur="indefinite" restart="never" nodeType="tmRoot">
          <p:childTnLst>
            <p:seq>
              <p:cTn id="15" dur="indefinite" nodeType="mainSeq">
                <p:childTnLst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gzd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684360" y="1600200"/>
            <a:ext cx="44640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manto nišas, iedobes augstceltņu sienās, spraugas zem daudzstāvu māju palodzēm un pažobe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 arī dabiskos un dzeņu kaltos koku dob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59B2260-0623-4422-A038-17F8CA00D8C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zīvesvei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324000" y="1557360"/>
            <a:ext cx="8229600" cy="4525920"/>
          </a:xfrm>
          <a:prstGeom prst="rect">
            <a:avLst/>
          </a:prstGeom>
          <a:solidFill>
            <a:srgbClr val="92d050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opš seniem laikiem svīres mitinās līdzās cilvēkiem – gan lauku apvidos, gan pilsēt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z zemes vai uz kādas citas lēzenas virsmas nolaižas tikai ligzdošanas period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Ēd un arī izguļas lidojo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dzeras lidojumā, pasmeļot ūdeni no ezera, upes vai dīķ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C1DC87B-E4B0-41FB-9F24-1B74AA16C29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ītis svire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6840" y="1600200"/>
            <a:ext cx="7139160" cy="4997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588000" y="371628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608918-6E1F-4B46-B337-0A72EE333B7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457200" y="1600200"/>
          <a:ext cx="8229600" cy="42051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1160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1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704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66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ic2.png"/>
          <p:cNvPicPr/>
          <p:nvPr/>
        </p:nvPicPr>
        <p:blipFill>
          <a:blip r:embed="rId2"/>
          <a:stretch/>
        </p:blipFill>
        <p:spPr>
          <a:xfrm>
            <a:off x="399564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26" descr="Pic3.png"/>
          <p:cNvPicPr/>
          <p:nvPr/>
        </p:nvPicPr>
        <p:blipFill>
          <a:blip r:embed="rId3"/>
          <a:stretch/>
        </p:blipFill>
        <p:spPr>
          <a:xfrm>
            <a:off x="6588000" y="3860640"/>
            <a:ext cx="118296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FF1C54-0644-45BC-A28B-88046DD33B18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5" descr="Picture1.png"/>
          <p:cNvPicPr/>
          <p:nvPr/>
        </p:nvPicPr>
        <p:blipFill>
          <a:blip r:embed="rId1"/>
          <a:stretch/>
        </p:blipFill>
        <p:spPr>
          <a:xfrm>
            <a:off x="700200" y="1724040"/>
            <a:ext cx="3552840" cy="42782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ņemams jumtiņ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53D754E-EE2C-48FD-B697-9D2149672DA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3B7A5A-3779-4F7B-9F6B-9C6967D47CC7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3:11Z</dcterms:modified>
  <cp:revision>123</cp:revision>
  <dc:subject/>
  <dc:title>Slide 1</dc:title>
</cp:coreProperties>
</file>