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5704-A87D-4B02-9FA0-FCA4552D9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9BB4-3323-493D-8474-5BFC1300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9D12-26AF-4CFB-9A7B-532718251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E42A-E13B-4C1E-B187-35A26B334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029D-077C-4E27-9647-5385CEE3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9A21-DD4C-4B98-91BE-F875EA10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1EC4-E56E-4C74-BDC7-BBEA1D7E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0DE7-D949-422E-9A79-BF91E38A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9382-F065-4543-96E0-DAFA7015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DD97-33B8-43B6-8C80-A4893E58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8E76-192C-466F-A7D6-21189BB3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04C4-EACF-43BF-9BA5-5E913D39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8427-627E-4494-B237-18581D5F588A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Put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898989"/>
                </a:solidFill>
                <a:latin typeface="Arial"/>
              </a:rPr>
              <a:t>Dažādās valodā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Mājas zvirbul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sser domesti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koduvarbl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naminis žvirb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house spa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Haussper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овой вороб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Lielā 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rus maj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rasvati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didžioji zy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great 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Kohlme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ая сини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Mājas straz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Sturnus vulg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kuldnok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varnė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common star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вор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il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rus caeru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siniti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mėlynoji zy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blue 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– Blaume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зоре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Svī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Apus a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ilja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kliedzēj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screa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crea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к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09:17:07Z</dcterms:created>
  <dc:creator>User</dc:creator>
  <dc:description/>
  <dc:language>en-US</dc:language>
  <cp:lastModifiedBy>User</cp:lastModifiedBy>
  <dcterms:modified xsi:type="dcterms:W3CDTF">2012-12-13T17:57:39Z</dcterms:modified>
  <cp:revision>9</cp:revision>
  <dc:subject/>
  <dc:title>Slide 1</dc:title>
</cp:coreProperties>
</file>