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685CFD-AF86-46C7-B4DB-E657C09F00B7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F092C-26E2-4BB2-98A0-59A16BEEAEF4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lv-LV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2802DE-826F-4C0F-AEBA-7D6084E6FF8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AE39-21A9-4836-9B4A-8D9D58823963}" type="slidenum">
              <a:rPr b="0" lang="lv-LV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0607A-FFC1-4845-B837-2F61602FB7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8744-14DE-47CD-A8D9-73052EF6DB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896F7-257B-44CE-A8E5-50F644F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22BB6-C88C-4FFB-A9D2-F7BC36911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DC81E-D293-454A-9ADB-F9AD1BB588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36F95-3B12-4B9E-9D9D-CEA70B2454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662C6-5BB5-4008-8DEA-4747EBE0E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651FA-7C8A-4D08-A4C2-EFE99905C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EF605-C692-4D61-B4D2-B4EFFC140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DF069-E343-4BBE-BFE9-C9D0BEBD21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FE0A-3D25-45A8-8E4C-88B0DA036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0A70F-6D17-4F33-9772-E43EF19981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532E11-0AF3-45F9-BEFD-54B07B9F3405}" type="datetime">
              <a:rPr b="0" lang="en-US" sz="1200" spc="-1" strike="noStrike">
                <a:solidFill>
                  <a:srgbClr val="898989"/>
                </a:solidFill>
                <a:latin typeface="Arial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1E333-FB1A-4FC2-9D65-AF7C066024D6}" type="slidenum">
              <a:rPr b="0" lang="en-US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www.putni.lv/" TargetMode="External"/><Relationship Id="rId2" Type="http://schemas.openxmlformats.org/officeDocument/2006/relationships/hyperlink" Target="http://www.putni.lv/" TargetMode="External"/><Relationship Id="rId3" Type="http://schemas.openxmlformats.org/officeDocument/2006/relationships/hyperlink" Target="http://www.putni.lv/" TargetMode="External"/><Relationship Id="rId4" Type="http://schemas.openxmlformats.org/officeDocument/2006/relationships/hyperlink" Target="http://www.putni.lv/" TargetMode="External"/><Relationship Id="rId5" Type="http://schemas.openxmlformats.org/officeDocument/2006/relationships/hyperlink" Target="http://www.putni.lv/" TargetMode="External"/><Relationship Id="rId6" Type="http://schemas.openxmlformats.org/officeDocument/2006/relationships/hyperlink" Target="http://www.lob.lv/download/buritis_zilitem_melnajam_muskerajam.pdf" TargetMode="External"/><Relationship Id="rId7" Type="http://schemas.openxmlformats.org/officeDocument/2006/relationships/hyperlink" Target="http://www.lob.lv/download/buritis_zilitem_melnajam_muskerajam.pdf" TargetMode="External"/><Relationship Id="rId8" Type="http://schemas.openxmlformats.org/officeDocument/2006/relationships/hyperlink" Target="http://www.lob.lv/download/buritis_zilitem_melnajam_muskerajam.pdf" TargetMode="External"/><Relationship Id="rId9" Type="http://schemas.openxmlformats.org/officeDocument/2006/relationships/hyperlink" Target="http://www.lob.lv/download/buritis_zilitem_melnajam_muskerajam.pdf" TargetMode="External"/><Relationship Id="rId10" Type="http://schemas.openxmlformats.org/officeDocument/2006/relationships/hyperlink" Target="http://www.lob.lv/download/buritis_zilitem_melnajam_muskerajam.pdf" TargetMode="External"/><Relationship Id="rId11" Type="http://schemas.openxmlformats.org/officeDocument/2006/relationships/hyperlink" Target="http://www.lob.lv/download/buritis_zilitem_melnajam_muskerajam.pdf" TargetMode="External"/><Relationship Id="rId12" Type="http://schemas.openxmlformats.org/officeDocument/2006/relationships/hyperlink" Target="http://www.lob.lv/download/buritis_zilitem_melnajam_muskerajam.pdf" TargetMode="External"/><Relationship Id="rId13" Type="http://schemas.openxmlformats.org/officeDocument/2006/relationships/image" Target="../media/image9.png"/><Relationship Id="rId1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Arial"/>
              </a:rPr>
              <a:t>Latvijas putn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1A6B-0369-44BE-81D4-28E6F8B9137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gatav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7200" y="1600200"/>
            <a:ext cx="8229600" cy="32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i jāizgatavo no 2–2,5 cm bieziem sausiem dēļ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Jumtiņu ieteicams nosegt ar skārdu vai ruberoīd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Būrīša dibens vienmēr jāpienaglo starp sienām, nevis no apakš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5" descr="Pt3.png"/>
          <p:cNvPicPr/>
          <p:nvPr/>
        </p:nvPicPr>
        <p:blipFill>
          <a:blip r:embed="rId1"/>
          <a:stretch/>
        </p:blipFill>
        <p:spPr>
          <a:xfrm>
            <a:off x="2987640" y="1628640"/>
            <a:ext cx="5830920" cy="4286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8D98E-3FE2-413F-9544-F8B247D34E9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mantotie avot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457200" y="1599840"/>
            <a:ext cx="8229600" cy="298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://lv.wikipedia.org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3"/>
              </a:rPr>
              <a:t>wiki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4"/>
              </a:rPr>
              <a:t>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5"/>
              </a:rPr>
              <a:t>Mājas_strazd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6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7"/>
              </a:rPr>
              <a:t>://www.lob.lv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8"/>
              </a:rPr>
              <a:t>download/buritis_majas_strazds_svire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9"/>
              </a:rPr>
              <a:t>http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0"/>
              </a:rPr>
              <a:t>://www.latvijasdaba.lv/putni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1"/>
              </a:rPr>
              <a:t>sturnus-vulgaris-l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Arial"/>
                <a:hlinkClick r:id="rId12"/>
              </a:rPr>
              <a:t>/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Picture 4" descr="C:\Users\User\AppData\Local\Microsoft\Windows\Temporary Internet Files\Content.IE5\5K36RP0L\MC900431604[1].png"/>
          <p:cNvPicPr/>
          <p:nvPr/>
        </p:nvPicPr>
        <p:blipFill>
          <a:blip r:embed="rId13"/>
          <a:stretch/>
        </p:blipFill>
        <p:spPr>
          <a:xfrm>
            <a:off x="5435640" y="4221000"/>
            <a:ext cx="1828800" cy="1828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980F-F3EE-4D73-9BBE-6D804E0899A5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eradum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56FC6-D916-4365-A540-B6A6B37261D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produkcij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2ADD1-BC98-4EB4-8E20-9F9238DA61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asug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229600" cy="45259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6537E-F4BF-47EC-BA6C-0C647DFB3D4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Īss raksturojum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1599840"/>
            <a:ext cx="814716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s ir zvirbuļveidīgo kārtas dziedātājput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s ir viens no visbiežāk sastopamajiem putniem pasaulē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4" descr="strazds2.png"/>
          <p:cNvPicPr/>
          <p:nvPr/>
        </p:nvPicPr>
        <p:blipFill>
          <a:blip r:embed="rId1"/>
          <a:stretch/>
        </p:blipFill>
        <p:spPr>
          <a:xfrm>
            <a:off x="3780000" y="3284640"/>
            <a:ext cx="5111640" cy="2473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430C4-5D30-4D0E-BB93-CBFD2CEC4E9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zska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826920" y="1412640"/>
            <a:ext cx="55454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pspalvojums melns ar tonētu spīdumu zaļā vai purpura krāsā ar nelieliem gaišiem raibumiņie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Garums 19-2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pārnu atvērums 37-42 c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91600" indent="-291600">
              <a:lnSpc>
                <a:spcPct val="15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vars 60 - 90 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84A14-1876-41A8-98CE-77CAA158354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aņ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684000" y="1600200"/>
            <a:ext cx="8002440" cy="456552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Strazdu dziesmas ir diezgan sarežģītas un izkoptas, bagātinātas ar dažādiem svilpieniem, klakšķiem un čirkstoņā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am ir bara sasaukšanās sauciens, briesmu sauciens, uzbrukuma sauciens, vienkārši vidžināšana un kopošanās saucie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Mājas strazds var atdarināt citus putn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FE05D-CE8E-40A2-B2D5-6DA7F8C47AA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ēta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4835520" cy="478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ājas strazdi ir visēdāj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zdošanas laikā tie ir izteikti kukaiņēdāji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eidzoties mazuļu barošanai, mājas strazdi labprāt barojas arī ar graudiem, sēklām, augļiem, ogām, ziedu nektāru u.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3" descr="strazds3.png"/>
          <p:cNvPicPr/>
          <p:nvPr/>
        </p:nvPicPr>
        <p:blipFill>
          <a:blip r:embed="rId1"/>
          <a:stretch/>
        </p:blipFill>
        <p:spPr>
          <a:xfrm>
            <a:off x="5580000" y="1700280"/>
            <a:ext cx="2879640" cy="40831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2339C-866A-4D16-AB9F-325F102F0BD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Būrīts majas strazdam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59984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av ieteicams zem skrejas vai citur pie būra piestiprināt lak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Jāizvieto vismaz 4–5 metru augstumā, pie koka, kārts vai ēkas si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eteicams gatavot atveramus, ar noņemamu jumtiņ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ar izlikt tuvu citu cit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3" descr="strazds5.png"/>
          <p:cNvPicPr/>
          <p:nvPr/>
        </p:nvPicPr>
        <p:blipFill>
          <a:blip r:embed="rId1"/>
          <a:stretch/>
        </p:blipFill>
        <p:spPr>
          <a:xfrm>
            <a:off x="6300720" y="4653000"/>
            <a:ext cx="1511280" cy="1919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02784-C032-4F9B-BE24-562FFB21060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kreju formas un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4" name=""/>
          <p:cNvGraphicFramePr/>
          <p:nvPr/>
        </p:nvGraphicFramePr>
        <p:xfrm>
          <a:off x="457200" y="1600200"/>
          <a:ext cx="7931160" cy="3844800"/>
        </p:xfrm>
        <a:graphic>
          <a:graphicData uri="http://schemas.openxmlformats.org/drawingml/2006/table">
            <a:tbl>
              <a:tblPr/>
              <a:tblGrid>
                <a:gridCol w="1882800"/>
                <a:gridCol w="2016000"/>
                <a:gridCol w="2160720"/>
                <a:gridCol w="1871640"/>
              </a:tblGrid>
              <a:tr h="144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876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pic>
        <p:nvPicPr>
          <p:cNvPr id="65" name="Picture 24" descr="Pic1.png"/>
          <p:cNvPicPr/>
          <p:nvPr/>
        </p:nvPicPr>
        <p:blipFill>
          <a:blip r:embed="rId1"/>
          <a:stretch/>
        </p:blipFill>
        <p:spPr>
          <a:xfrm>
            <a:off x="826920" y="3860640"/>
            <a:ext cx="1176480" cy="13179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5" descr="Pic2.png"/>
          <p:cNvPicPr/>
          <p:nvPr/>
        </p:nvPicPr>
        <p:blipFill>
          <a:blip r:embed="rId2"/>
          <a:stretch/>
        </p:blipFill>
        <p:spPr>
          <a:xfrm>
            <a:off x="2843280" y="3860640"/>
            <a:ext cx="1176120" cy="13179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6" descr="Pic3.png"/>
          <p:cNvPicPr/>
          <p:nvPr/>
        </p:nvPicPr>
        <p:blipFill>
          <a:blip r:embed="rId3"/>
          <a:stretch/>
        </p:blipFill>
        <p:spPr>
          <a:xfrm>
            <a:off x="4859280" y="3860640"/>
            <a:ext cx="1182600" cy="132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7A30-5123-4A91-AF56-11460B30746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tis un tā novietoša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zāķējama stiep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Content Placeholder 39" descr="Pic4.png"/>
          <p:cNvPicPr/>
          <p:nvPr/>
        </p:nvPicPr>
        <p:blipFill>
          <a:blip r:embed="rId1"/>
          <a:stretch/>
        </p:blipFill>
        <p:spPr>
          <a:xfrm>
            <a:off x="4888080" y="1720800"/>
            <a:ext cx="3558960" cy="4284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06BEA-7995-48D2-8D0B-C19ECD071C9E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8" dur="2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Būrīša izmēr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148BB-A78F-4FFD-B715-516798A0D81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8:57:42Z</dcterms:created>
  <dc:creator>User</dc:creator>
  <dc:description/>
  <dc:language>en-US</dc:language>
  <cp:lastModifiedBy>peterisz</cp:lastModifiedBy>
  <dcterms:modified xsi:type="dcterms:W3CDTF">2013-02-04T14:39:05Z</dcterms:modified>
  <cp:revision>108</cp:revision>
  <dc:subject/>
  <dc:title>Slide 1</dc:title>
</cp:coreProperties>
</file>