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C9CE1-55D2-454B-A979-B15A25178CDB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29F5A-E2B9-41C5-953B-781798F789EE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B67BF-1BA9-4792-8E7E-8651D3585A93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87D02-0924-4624-9E97-2223C6439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681C9-8A2F-48EF-B1C6-2157DB2CD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F4883-C2C6-4173-A66F-2F701B52E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D9AF0-445B-4CB7-95D5-C5651998F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CBC56-B3D6-4140-BFB2-1F4DE4FD0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9F286-47E2-487C-A46F-E85F5FE47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46C38-C7D7-4A45-BB81-38FFBDA7B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1A389-4E78-42E2-B0D2-83EFDE33F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81372-8A61-4AF9-82AD-5403984BB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2A9AE-AF8C-497C-A867-915722BE4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CAB1C-4C93-4A52-849D-5FB714971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C06AA-8DB8-4C96-8BD2-CCED4A6B5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A521E-F0FF-4BD2-924A-FAF71DD2203C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41002-C29E-4E0B-BE81-974E62CD4E9D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lob.lv/download/buritis_zilitem_melnajam_muskerajam.pdf" TargetMode="External"/><Relationship Id="rId2" Type="http://schemas.openxmlformats.org/officeDocument/2006/relationships/hyperlink" Target="http://www.lob.lv/download/buritis_zilitem_melnajam_muskerajam.pdf" TargetMode="External"/><Relationship Id="rId3" Type="http://schemas.openxmlformats.org/officeDocument/2006/relationships/hyperlink" Target="http://www.lob.lv/download/buritis_zilitem_melnajam_muskerajam.pdf" TargetMode="External"/><Relationship Id="rId4" Type="http://schemas.openxmlformats.org/officeDocument/2006/relationships/hyperlink" Target="http://www.lob.lv/download/buritis_zilitem_melnajam_muskerajam.pdf" TargetMode="External"/><Relationship Id="rId5" Type="http://schemas.openxmlformats.org/officeDocument/2006/relationships/hyperlink" Target="http://www.lob.lv/download/buritis_zilitem_melnajam_muskerajam.pdf" TargetMode="External"/><Relationship Id="rId6" Type="http://schemas.openxmlformats.org/officeDocument/2006/relationships/hyperlink" Target="http://www.lob.lv/download/buritis_zilitem_melnajam_muskerajam.pdf" TargetMode="External"/><Relationship Id="rId7" Type="http://schemas.openxmlformats.org/officeDocument/2006/relationships/hyperlink" Target="http://www.lob.lv/download/buritis_zilitem_melnajam_muskerajam.pdf" TargetMode="External"/><Relationship Id="rId8" Type="http://schemas.openxmlformats.org/officeDocument/2006/relationships/hyperlink" Target="http://www.latvijasdaba.lv/putni/parus-caeruleus-l/" TargetMode="External"/><Relationship Id="rId9" Type="http://schemas.openxmlformats.org/officeDocument/2006/relationships/hyperlink" Target="http://www.latvijasdaba.lv/putni/parus-caeruleus-l/" TargetMode="External"/><Relationship Id="rId10" Type="http://schemas.openxmlformats.org/officeDocument/2006/relationships/hyperlink" Target="http://www.latvijasdaba.lv/putni/parus-caeruleus-l/" TargetMode="External"/><Relationship Id="rId11" Type="http://schemas.openxmlformats.org/officeDocument/2006/relationships/hyperlink" Target="http://www.latvijasdaba.lv/putni/parus-caeruleus-l/" TargetMode="External"/><Relationship Id="rId1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zILZĪLĪ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Arial"/>
              </a:rPr>
              <a:t>Latvijas put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8" descr="C:\Users\User\AppData\Local\Microsoft\Windows\Temporary Internet Files\Content.IE5\8RKKZONO\MC900391474[1].wmf"/>
          <p:cNvPicPr/>
          <p:nvPr/>
        </p:nvPicPr>
        <p:blipFill>
          <a:blip r:embed="rId1"/>
          <a:stretch/>
        </p:blipFill>
        <p:spPr>
          <a:xfrm>
            <a:off x="6443640" y="1052640"/>
            <a:ext cx="1814400" cy="164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aug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025D26-31CE-41CC-B8A2-B76DF94A12C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kreju formas un izmēr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457200" y="1600200"/>
          <a:ext cx="8229600" cy="336564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67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22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pic>
        <p:nvPicPr>
          <p:cNvPr id="73" name="Picture 24" descr="Pic1.png"/>
          <p:cNvPicPr/>
          <p:nvPr/>
        </p:nvPicPr>
        <p:blipFill>
          <a:blip r:embed="rId1"/>
          <a:stretch/>
        </p:blipFill>
        <p:spPr>
          <a:xfrm>
            <a:off x="1116000" y="3068640"/>
            <a:ext cx="1176480" cy="13176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5" descr="Pic2.png"/>
          <p:cNvPicPr/>
          <p:nvPr/>
        </p:nvPicPr>
        <p:blipFill>
          <a:blip r:embed="rId2"/>
          <a:stretch/>
        </p:blipFill>
        <p:spPr>
          <a:xfrm>
            <a:off x="3995640" y="3068640"/>
            <a:ext cx="1176480" cy="13176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6" descr="Pic3.png"/>
          <p:cNvPicPr/>
          <p:nvPr/>
        </p:nvPicPr>
        <p:blipFill>
          <a:blip r:embed="rId3"/>
          <a:stretch/>
        </p:blipFill>
        <p:spPr>
          <a:xfrm>
            <a:off x="6659640" y="3068640"/>
            <a:ext cx="1182600" cy="1322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aug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EE8970-87FB-4D20-8E98-1EB779C9F15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zmantotie avo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://lv.wikipedia.org/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wiki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/Zilzīlī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5"/>
              </a:rPr>
              <a:t>http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6"/>
              </a:rPr>
              <a:t>://www.lob.lv/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7"/>
              </a:rPr>
              <a:t>download/buritis_zilitem_melnajam_muskerajam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8"/>
              </a:rPr>
              <a:t>http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9"/>
              </a:rPr>
              <a:t>://www.latvijasdaba.lv/putni/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10"/>
              </a:rPr>
              <a:t>parus-caeruleus-l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11"/>
              </a:rPr>
              <a:t>/</a:t>
            </a: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aug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062F8C-1C82-4D41-AB58-DFBB5B90AFC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eradum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aug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7513A3-7202-4B9C-8319-8147B8F2FB8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tvij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aug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9B26EE-7F50-4A38-8CEB-2F9E44D130B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Iss rksturoju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6840" y="1599840"/>
            <a:ext cx="8147160" cy="42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ilzīlīte ir Latvijā ļoti bieži sastopama zvirbuļveidīgo kārtas putnu sug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zdala 11 zilzīlīšu pasug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3" descr="bt2.png"/>
          <p:cNvPicPr/>
          <p:nvPr/>
        </p:nvPicPr>
        <p:blipFill>
          <a:blip r:embed="rId1"/>
          <a:stretch/>
        </p:blipFill>
        <p:spPr>
          <a:xfrm>
            <a:off x="2050920" y="4437000"/>
            <a:ext cx="5907240" cy="2095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aug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AC626F-D75A-4FEF-A11A-E8DA541A18F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zplatīb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51228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100" spc="-1" strike="noStrike">
                <a:solidFill>
                  <a:srgbClr val="000000"/>
                </a:solidFill>
                <a:latin typeface="Arial"/>
              </a:rPr>
              <a:t>Visā Eiropā, izņemot pašus ziemeļus un augstkalnu apgabalu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100" spc="-1" strike="noStrike">
                <a:solidFill>
                  <a:srgbClr val="000000"/>
                </a:solidFill>
                <a:latin typeface="Arial"/>
              </a:rPr>
              <a:t>Kanāriju salas, Ziemeļāfrika un Mazāzija un vietām citur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100" spc="-1" strike="noStrike">
                <a:solidFill>
                  <a:srgbClr val="000000"/>
                </a:solidFill>
                <a:latin typeface="Arial"/>
              </a:rPr>
              <a:t>Ziemo ligzdošanas areālā, tomēr daļa putnu rudenī klejo uz dienvidiem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zilzilite2.png"/>
          <p:cNvPicPr/>
          <p:nvPr/>
        </p:nvPicPr>
        <p:blipFill>
          <a:blip r:embed="rId1"/>
          <a:stretch/>
        </p:blipFill>
        <p:spPr>
          <a:xfrm>
            <a:off x="6027840" y="0"/>
            <a:ext cx="3116160" cy="3638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aug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52918D-D74F-4DAD-B2D0-8A064EF247F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zska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826920" y="1628640"/>
            <a:ext cx="7561440" cy="23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Maza izmēra zīlīte ar tievu un īsu knābī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Ķermeņa garums 11—12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Svars 7,5—14,7 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aug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5E107C-433C-4C16-A021-1038FAE7BC1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rāsoju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684000" y="1600200"/>
            <a:ext cx="8002440" cy="4781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Spilgti zila galvas augšdaļa, kas kontrastē ar zīlītēm raksturīgajiem baltajiem vaigi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Sejas zīmējumu veido tumši zilas spalv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Spārni, aste un pakausis zilgani, mugura olīvzaļ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Vēders dzeltens ar nelielu tumšu josl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Knābis melns, kājas pelēk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aug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01CE8B-1340-4FCA-A9BE-FF74273E3CF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ūrītis zīlītē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33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ūrīšus izvieto dažādos mežos, parkos, dārzos un apstādījum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žos tajos visbiežāk ligzdo lielā zīlīte, bet retāk cekulzīlīte un zilzīlī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ūrīšiem noteikti jābūt atveramiem, lai tos varētu regulāri iztīrī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3" descr="strazds5.png"/>
          <p:cNvPicPr/>
          <p:nvPr/>
        </p:nvPicPr>
        <p:blipFill>
          <a:blip r:embed="rId1"/>
          <a:stretch/>
        </p:blipFill>
        <p:spPr>
          <a:xfrm>
            <a:off x="6443640" y="4581360"/>
            <a:ext cx="1511280" cy="1919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aug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BE04FC-CF47-48B2-8E5C-F0721E5E386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ūrīša izgatavoš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32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Būrīši jāizgatavo no 2–2,5 cm bieziem sausiem neēvelētiem dēļi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Jumtiņu ieteicams nosegt ar skārdu vai ruberoī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Būrīša dibens vienmēr jāpienaglo starp sienām, nevis no apakš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6" descr="Pt2.png"/>
          <p:cNvPicPr/>
          <p:nvPr/>
        </p:nvPicPr>
        <p:blipFill>
          <a:blip r:embed="rId1"/>
          <a:stretch/>
        </p:blipFill>
        <p:spPr>
          <a:xfrm>
            <a:off x="3203640" y="1773360"/>
            <a:ext cx="5716440" cy="4286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aug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4A6A10-471D-4949-89C6-84A2535014F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ūrītis un tā novietoš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Content Placeholder 36" descr="Picture1.png"/>
          <p:cNvPicPr/>
          <p:nvPr/>
        </p:nvPicPr>
        <p:blipFill>
          <a:blip r:embed="rId1"/>
          <a:stretch/>
        </p:blipFill>
        <p:spPr>
          <a:xfrm>
            <a:off x="790560" y="1724040"/>
            <a:ext cx="3371760" cy="427824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ābūt atveram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aug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916BA1-ADD9-40FD-8B21-BB27B0A85DD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ūrīša izmēr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aug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2370D7-1686-43B4-89A5-8F427EE4FF5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31T08:57:42Z</dcterms:created>
  <dc:creator>User</dc:creator>
  <dc:description/>
  <dc:language>en-US</dc:language>
  <cp:lastModifiedBy>peterisz</cp:lastModifiedBy>
  <dcterms:modified xsi:type="dcterms:W3CDTF">2013-02-04T14:42:06Z</dcterms:modified>
  <cp:revision>112</cp:revision>
  <dc:subject/>
  <dc:title>Slide 1</dc:title>
</cp:coreProperties>
</file>