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64C3A-9A9E-470B-B7FF-5A61FD124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E1051-BBB5-4D90-871D-3DD61B8E83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C50DE-B9B7-4B93-8254-89C75281EE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FD14-02C0-4461-9728-6509C2C75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2025A-EBF8-4DE5-9DEC-ED602ACD18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14C10-6AC8-4497-9F69-8A759B438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3FE7E-8547-4E7A-AFBA-D3127DDE6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807C4-25B3-45E0-B4FB-289440FBFB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D163D-5D11-4A9D-BD9F-C2EE732910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B4BCF-FD20-4A5B-A6E7-9C4BD6FA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5D35B-2893-40B3-BDB7-CB714B999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A3ED9-F771-4A11-A53F-D00EE9667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1200" spc="-1" strike="noStrike">
                <a:solidFill>
                  <a:srgbClr val="898989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v-LV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90D37-1F30-4331-89CC-4520258BC709}" type="slidenum">
              <a:rPr b="0" lang="lv-LV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Put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898989"/>
                </a:solidFill>
                <a:latin typeface="Arial"/>
              </a:rPr>
              <a:t>Dažādās valodā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zvirbuli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sser domestic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oduvarbl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naminis žvirbl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house sparrow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Hausspe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омовой воробе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Lielā 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maj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rasva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didži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great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Kohl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большая синиц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Mājas strazd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Sturnus vulgar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kuldnokk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varnė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common star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Sta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кворе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Zilzīlīt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Parus caerule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sinitiha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mėlynoji zyl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blue t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– Blaumeis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лазоревк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4400" spc="-1" strike="noStrike">
                <a:solidFill>
                  <a:srgbClr val="000000"/>
                </a:solidFill>
                <a:latin typeface="Arial"/>
              </a:rPr>
              <a:t>Svī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atīņu - Apus apu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Igauņu - </a:t>
            </a:r>
            <a:r>
              <a:rPr b="0" lang="et-EE" sz="3200" spc="-1" strike="noStrike">
                <a:solidFill>
                  <a:srgbClr val="000000"/>
                </a:solidFill>
                <a:latin typeface="Arial"/>
              </a:rPr>
              <a:t>kiljataj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Lietuviešu - </a:t>
            </a:r>
            <a:r>
              <a:rPr b="0" lang="lt-LT" sz="3200" spc="-1" strike="noStrike">
                <a:solidFill>
                  <a:srgbClr val="000000"/>
                </a:solidFill>
                <a:latin typeface="Arial"/>
              </a:rPr>
              <a:t>kliedzēj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Angļu - 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Vācu -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creame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v-LV" sz="3200" spc="-1" strike="noStrike">
                <a:solidFill>
                  <a:srgbClr val="000000"/>
                </a:solidFill>
                <a:latin typeface="Arial"/>
              </a:rPr>
              <a:t>Krievu -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рикун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12-06T09:17:07Z</dcterms:created>
  <dc:creator>User</dc:creator>
  <dc:description/>
  <dc:language>en-US</dc:language>
  <cp:lastModifiedBy>User</cp:lastModifiedBy>
  <dcterms:modified xsi:type="dcterms:W3CDTF">2012-12-13T17:57:39Z</dcterms:modified>
  <cp:revision>9</cp:revision>
  <dc:subject/>
  <dc:title>Slide 1</dc:title>
</cp:coreProperties>
</file>