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CB6708-8679-46DB-87A6-31A204B9886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CA51D1-5BAB-418E-A4E4-3E263EE7CD28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10A84-77EA-49F4-8C7F-055D9A5756B9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51334-9E9B-4B91-9EEE-6D1584D352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73147-280C-45B4-9749-9A131DC5F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13569-515F-478F-A553-5729005F2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74A0C5-1240-45B4-813D-699B6EB481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CDF4-D549-455B-B471-FF8E3BDDA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0F00F-88E1-4215-AE90-CA4A84A4A7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2C142-E22F-4B66-8915-97EEF69C85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DEC41-FF8F-472A-8F8F-265B45A138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BFF96-DAF8-4612-85A8-224B22D006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FD6F7-C97C-4657-9154-33C570286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1DE59-4C9E-419B-B4E4-F55B3A51F2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E68F-896A-4ABD-B373-11D278CAB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7ECBA-9AAD-4FCE-85E1-3162C3DDC6F7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36799-D63E-4CD5-AC70-DDF9E830C90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lob.lv/download/buritis_zilitem_melnajam_muskerajam.pdf" TargetMode="External"/><Relationship Id="rId2" Type="http://schemas.openxmlformats.org/officeDocument/2006/relationships/hyperlink" Target="http://www.lob.lv/download/buritis_zilitem_melnajam_muskerajam.pdf" TargetMode="External"/><Relationship Id="rId3" Type="http://schemas.openxmlformats.org/officeDocument/2006/relationships/hyperlink" Target="http://www.lob.lv/download/buritis_zilitem_melnajam_muskerajam.pdf" TargetMode="External"/><Relationship Id="rId4" Type="http://schemas.openxmlformats.org/officeDocument/2006/relationships/hyperlink" Target="http://www.lob.lv/download/buritis_zilitem_melnajam_muskerajam.pdf" TargetMode="External"/><Relationship Id="rId5" Type="http://schemas.openxmlformats.org/officeDocument/2006/relationships/hyperlink" Target="http://www.lob.lv/download/buritis_zilitem_melnajam_muskerajam.pdf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atvijasdaba.lv/putni/parus-caeruleus-l/" TargetMode="External"/><Relationship Id="rId9" Type="http://schemas.openxmlformats.org/officeDocument/2006/relationships/hyperlink" Target="http://www.latvijasdaba.lv/putni/parus-caeruleus-l/" TargetMode="External"/><Relationship Id="rId10" Type="http://schemas.openxmlformats.org/officeDocument/2006/relationships/hyperlink" Target="http://www.latvijasdaba.lv/putni/parus-caeruleus-l/" TargetMode="External"/><Relationship Id="rId11" Type="http://schemas.openxmlformats.org/officeDocument/2006/relationships/hyperlink" Target="http://www.latvijasdaba.lv/putni/parus-caeruleus-l/" TargetMode="External"/><Relationship Id="rId1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C:\Users\User\AppData\Local\Microsoft\Windows\Temporary Internet Files\Content.IE5\8RKKZONO\MC900391474[1].wmf"/>
          <p:cNvPicPr/>
          <p:nvPr/>
        </p:nvPicPr>
        <p:blipFill>
          <a:blip r:embed="rId1"/>
          <a:stretch/>
        </p:blipFill>
        <p:spPr>
          <a:xfrm>
            <a:off x="6443640" y="1052640"/>
            <a:ext cx="1814400" cy="164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EBBC44-E628-43F6-B49C-B57C481C3AC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457200" y="1600200"/>
          <a:ext cx="8229600" cy="336564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67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2229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73" name="Picture 24" descr="Pic1.png"/>
          <p:cNvPicPr/>
          <p:nvPr/>
        </p:nvPicPr>
        <p:blipFill>
          <a:blip r:embed="rId1"/>
          <a:stretch/>
        </p:blipFill>
        <p:spPr>
          <a:xfrm>
            <a:off x="111600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25" descr="Pic2.png"/>
          <p:cNvPicPr/>
          <p:nvPr/>
        </p:nvPicPr>
        <p:blipFill>
          <a:blip r:embed="rId2"/>
          <a:stretch/>
        </p:blipFill>
        <p:spPr>
          <a:xfrm>
            <a:off x="3995640" y="3068640"/>
            <a:ext cx="1176480" cy="13176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26" descr="Pic3.png"/>
          <p:cNvPicPr/>
          <p:nvPr/>
        </p:nvPicPr>
        <p:blipFill>
          <a:blip r:embed="rId3"/>
          <a:stretch/>
        </p:blipFill>
        <p:spPr>
          <a:xfrm>
            <a:off x="6659640" y="3068640"/>
            <a:ext cx="1182600" cy="13222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0924F-3950-4235-B0F1-5C8D3916410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download/buritis_zilitem_melnajam_muskerajam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parus-caeruleu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/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ADC76ED-504F-4E21-908C-B8321477676F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9FD44FE-DEB4-4E6A-88F9-B96BEE6DE0E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tvijā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E3E7A9B-D767-4D83-B382-69CFC673143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Iss r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6840" y="1599840"/>
            <a:ext cx="8147160" cy="4205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Zilzīlīte ir Latvijā ļoti bieži sastopama zvirbuļveidīgo kārtas putnu sug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2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zdala 11 zilzīlīšu pasug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3" descr="bt2.png"/>
          <p:cNvPicPr/>
          <p:nvPr/>
        </p:nvPicPr>
        <p:blipFill>
          <a:blip r:embed="rId1"/>
          <a:stretch/>
        </p:blipFill>
        <p:spPr>
          <a:xfrm>
            <a:off x="2050920" y="4437000"/>
            <a:ext cx="5907240" cy="20955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A918EE-3A70-4739-96EA-AB531C0075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platīb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512280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Visā Eiropā, izņemot pašus ziemeļus un augstkalnu apgabalus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Kanāriju salas, Ziemeļāfrika un Mazāzija un vietām citur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74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100" spc="-1" strike="noStrike">
                <a:solidFill>
                  <a:srgbClr val="000000"/>
                </a:solidFill>
                <a:latin typeface="Arial"/>
              </a:rPr>
              <a:t>Ziemo ligzdošanas areālā, tomēr daļa putnu rudenī klejo uz dienvidiem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4" descr="zilzilite2.png"/>
          <p:cNvPicPr/>
          <p:nvPr/>
        </p:nvPicPr>
        <p:blipFill>
          <a:blip r:embed="rId1"/>
          <a:stretch/>
        </p:blipFill>
        <p:spPr>
          <a:xfrm>
            <a:off x="6027840" y="0"/>
            <a:ext cx="3116160" cy="3638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01AE74-B7F2-4CC6-99D4-0E2D3ACF9B12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826920" y="1628640"/>
            <a:ext cx="7561440" cy="237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aza izmēra zīlīte ar tievu un īsu knābīt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Ķermeņa garums 11—12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</a:t>
            </a: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vars 7,5—14,7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B0E3324-8298-48EE-9511-DAB8623F4C1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5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Krās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684000" y="1600200"/>
            <a:ext cx="8002440" cy="4781520"/>
          </a:xfrm>
          <a:prstGeom prst="rect">
            <a:avLst/>
          </a:prstGeom>
          <a:solidFill>
            <a:srgbClr val="ffff00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ilgti zila galvas augšdaļa, kas kontrastē ar zīlītēm raksturīgajiem baltajiem vaig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ejas zīmējumu veido tumši zilas spalv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pārni, aste un pakausis zilgani, mugura olīvzaļ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ēders dzeltens ar nelielu tumšu josl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nābis melns, kājas pelēk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3A1D2E-1BAB-4879-9132-603F2F7320C1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zīlītē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457200" y="1600200"/>
            <a:ext cx="8229600" cy="334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us izvieto dažādos mežos, parkos, dārzos un apstādījum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žos tajos visbiežāk ligzdo lielā zīlīte, bet retāk cekulzīlīte un zilzīlī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ūrīšiem noteikti jābūt atveramiem, lai tos varētu regulāri iztīrī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Picture 3" descr="strazds5.png"/>
          <p:cNvPicPr/>
          <p:nvPr/>
        </p:nvPicPr>
        <p:blipFill>
          <a:blip r:embed="rId1"/>
          <a:stretch/>
        </p:blipFill>
        <p:spPr>
          <a:xfrm>
            <a:off x="6443640" y="4581360"/>
            <a:ext cx="1511280" cy="1919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6CDE27-BA7E-4E1D-8D3B-182A38F2B75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neēvelēt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6" descr="Pt2.png"/>
          <p:cNvPicPr/>
          <p:nvPr/>
        </p:nvPicPr>
        <p:blipFill>
          <a:blip r:embed="rId1"/>
          <a:stretch/>
        </p:blipFill>
        <p:spPr>
          <a:xfrm>
            <a:off x="3203640" y="1773360"/>
            <a:ext cx="5716440" cy="4286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A47C01-86C5-430B-841E-695EC1725AB6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Content Placeholder 36" descr="Picture1.png"/>
          <p:cNvPicPr/>
          <p:nvPr/>
        </p:nvPicPr>
        <p:blipFill>
          <a:blip r:embed="rId1"/>
          <a:stretch/>
        </p:blipFill>
        <p:spPr>
          <a:xfrm>
            <a:off x="790560" y="1724040"/>
            <a:ext cx="3371760" cy="4278240"/>
          </a:xfrm>
          <a:prstGeom prst="rect">
            <a:avLst/>
          </a:prstGeom>
          <a:ln w="0">
            <a:noFill/>
          </a:ln>
        </p:spPr>
      </p:pic>
      <p:sp>
        <p:nvSpPr>
          <p:cNvPr id="6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Jābūt atverama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D6447C4-0EA2-4684-B493-6E8F2DA9CE5C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araugs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9B88AD-6A4D-4496-9F17-72377E57A21D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42:06Z</dcterms:modified>
  <cp:revision>112</cp:revision>
  <dc:subject/>
  <dc:title>Slide 1</dc:title>
</cp:coreProperties>
</file>