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CBF9D-8F76-4382-8D77-07A1E136D9A7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BBB69-56F9-429C-BC63-432F5DF9753B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BC3E3-EF21-4CA8-854E-46A0A2851AE0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3275C-933D-4D41-AB08-0E0A4938371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E333-2AEB-4790-978F-B10BE837A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6133-E00A-4A49-A5FD-EF120E229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A5F8-0E05-43BC-B6F6-BB3D71829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5800-08E9-4DA7-921D-224883B03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F7B9-B597-4638-881D-78278AE55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CB78-307F-4A87-9EE2-95A482FDB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49A9-69AD-4D78-BB2A-49AEF6A2F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4439-C095-4AF7-B7AE-C3B484B57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FB36-9E6D-4A60-9A06-C6357FCDA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E543-E5BA-43A6-BB5C-ECED530E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9AAC-3C3F-42B2-B55E-5B5FCA489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CDA7-34DB-4487-AE5D-7EF7BAF3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73F1E-77C1-412D-BE2A-7E43256762DF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37453-6F77-46D9-8560-4BE78D9FAED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putni.lv/" TargetMode="External"/><Relationship Id="rId2" Type="http://schemas.openxmlformats.org/officeDocument/2006/relationships/hyperlink" Target="http://www.putni.lv/" TargetMode="External"/><Relationship Id="rId3" Type="http://schemas.openxmlformats.org/officeDocument/2006/relationships/hyperlink" Target="http://www.putni.lv/" TargetMode="External"/><Relationship Id="rId4" Type="http://schemas.openxmlformats.org/officeDocument/2006/relationships/hyperlink" Target="http://www.putni.lv/" TargetMode="External"/><Relationship Id="rId5" Type="http://schemas.openxmlformats.org/officeDocument/2006/relationships/hyperlink" Target="http://www.putni.lv/" TargetMode="External"/><Relationship Id="rId6" Type="http://schemas.openxmlformats.org/officeDocument/2006/relationships/hyperlink" Target="http://www.lob.lv/download/buritis_zilitem_melnajam_muskerajam.pdf" TargetMode="External"/><Relationship Id="rId7" Type="http://schemas.openxmlformats.org/officeDocument/2006/relationships/hyperlink" Target="http://www.lob.lv/download/buritis_zilitem_melnajam_muskerajam.pdf" TargetMode="External"/><Relationship Id="rId8" Type="http://schemas.openxmlformats.org/officeDocument/2006/relationships/hyperlink" Target="http://www.lob.lv/download/buritis_zilitem_melnajam_muskerajam.pdf" TargetMode="External"/><Relationship Id="rId9" Type="http://schemas.openxmlformats.org/officeDocument/2006/relationships/hyperlink" Target="http://www.lob.lv/download/buritis_zilitem_melnajam_muskerajam.pdf" TargetMode="External"/><Relationship Id="rId10" Type="http://schemas.openxmlformats.org/officeDocument/2006/relationships/hyperlink" Target="http://www.lob.lv/download/buritis_zilitem_melnajam_muskerajam.pdf" TargetMode="External"/><Relationship Id="rId11" Type="http://schemas.openxmlformats.org/officeDocument/2006/relationships/hyperlink" Target="http://www.lob.lv/download/buritis_zilitem_melnajam_muskerajam.pdf" TargetMode="External"/><Relationship Id="rId12" Type="http://schemas.openxmlformats.org/officeDocument/2006/relationships/hyperlink" Target="http://www.lob.lv/download/buritis_zilitem_melnajam_muskerajam.pdf" TargetMode="External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ājas straz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Latvijas put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3A7F-59DC-4538-AB51-284E296722B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gatav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i jāizgatavo no 2–2,5 cm bieziem sausiem dēļ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Jumtiņu ieteicams nosegt ar skārdu vai ruberoī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a dibens vienmēr jāpienaglo starp sienām, nevis no apakš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Pt3.png"/>
          <p:cNvPicPr/>
          <p:nvPr/>
        </p:nvPicPr>
        <p:blipFill>
          <a:blip r:embed="rId1"/>
          <a:stretch/>
        </p:blipFill>
        <p:spPr>
          <a:xfrm>
            <a:off x="2987640" y="1628640"/>
            <a:ext cx="5830920" cy="428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2462-438F-4CC8-9627-B4F29AA3257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mantotie avo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59984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://lv.wikipedia.org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iki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Mājas_straz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://www.lob.lv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download/buritis_majas_strazds_svire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://www.latvijasdaba.lv/putni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sturnus-vulgaris-l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2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C:\Users\User\AppData\Local\Microsoft\Windows\Temporary Internet Files\Content.IE5\5K36RP0L\MC900431604[1].png"/>
          <p:cNvPicPr/>
          <p:nvPr/>
        </p:nvPicPr>
        <p:blipFill>
          <a:blip r:embed="rId13"/>
          <a:stretch/>
        </p:blipFill>
        <p:spPr>
          <a:xfrm>
            <a:off x="5435640" y="42210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64A6-77EE-407A-B7CA-805D5B99032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eradu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0B26-65BC-4121-BCD8-1C6AE92646B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rodukc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1C54-CD17-4287-9833-83806FBF03A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sug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35C1-229E-45AC-BD75-667A491823A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Īss raksturoj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599840"/>
            <a:ext cx="814716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ājas strazds ir zvirbuļveidīgo kārtas dziedātājput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 ir viens no visbiežāk sastopamajiem putniem pasaul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strazds2.png"/>
          <p:cNvPicPr/>
          <p:nvPr/>
        </p:nvPicPr>
        <p:blipFill>
          <a:blip r:embed="rId1"/>
          <a:stretch/>
        </p:blipFill>
        <p:spPr>
          <a:xfrm>
            <a:off x="3780000" y="3284640"/>
            <a:ext cx="5111640" cy="247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AF01-4FC3-4EC4-A2D8-833F92CF40C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sk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826920" y="1412640"/>
            <a:ext cx="55454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spalvojums melns ar tonētu spīdumu zaļā vai purpura krāsā ar nelieliem gaišiem raibumiņ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rums 19-22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ārnu atvērums 37-42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vars 60 - 90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5446-A322-48FF-9020-354C1F09458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aņ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4000" y="1600200"/>
            <a:ext cx="8002440" cy="456552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trazdu dziesmas ir diezgan sarežģītas un izkoptas, bagātinātas ar dažādiem svilpieniem, klakšķiem un čirkstoņā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Mājas strazdam ir bara sasaukšanās sauciens, briesmu sauciens, uzbrukuma sauciens, vienkārši vidžināšana un kopošanās sauci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Mājas strazds var atdarināt citus put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AC2D-EC35-42C2-BB9D-FE9FC4EE239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ēt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48355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ājas strazdi ir visēdā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zdošanas laikā tie ir izteikti kukaiņēdāj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idzoties mazuļu barošanai, mājas strazdi labprāt barojas arī ar graudiem, sēklām, augļiem, ogām, ziedu nektāru u.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strazds3.png"/>
          <p:cNvPicPr/>
          <p:nvPr/>
        </p:nvPicPr>
        <p:blipFill>
          <a:blip r:embed="rId1"/>
          <a:stretch/>
        </p:blipFill>
        <p:spPr>
          <a:xfrm>
            <a:off x="5580000" y="1700280"/>
            <a:ext cx="2879640" cy="4083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F203-C457-4045-AC7F-5D31B1519FF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Būrīts majas strazd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9984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v ieteicams zem skrejas vai citur pie būra piestiprināt laktiņ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āizvieto vismaz 4–5 metru augstumā, pie koka, kārts vai ēkas sie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teicams gatavot atveramus, ar noņemamu jumtiņ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 izlikt tuvu citu cit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strazds5.png"/>
          <p:cNvPicPr/>
          <p:nvPr/>
        </p:nvPicPr>
        <p:blipFill>
          <a:blip r:embed="rId1"/>
          <a:stretch/>
        </p:blipFill>
        <p:spPr>
          <a:xfrm>
            <a:off x="6300720" y="4653000"/>
            <a:ext cx="1511280" cy="1919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96EA-4883-4248-9884-49186189CE4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reju formas un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7200" y="1600200"/>
          <a:ext cx="7931160" cy="3844800"/>
        </p:xfrm>
        <a:graphic>
          <a:graphicData uri="http://schemas.openxmlformats.org/drawingml/2006/table">
            <a:tbl>
              <a:tblPr/>
              <a:tblGrid>
                <a:gridCol w="1882800"/>
                <a:gridCol w="2016000"/>
                <a:gridCol w="2160720"/>
                <a:gridCol w="1871640"/>
              </a:tblGrid>
              <a:tr h="14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87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65" name="Picture 24" descr="Pic1.png"/>
          <p:cNvPicPr/>
          <p:nvPr/>
        </p:nvPicPr>
        <p:blipFill>
          <a:blip r:embed="rId1"/>
          <a:stretch/>
        </p:blipFill>
        <p:spPr>
          <a:xfrm>
            <a:off x="826920" y="3860640"/>
            <a:ext cx="1176480" cy="1317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5" descr="Pic2.png"/>
          <p:cNvPicPr/>
          <p:nvPr/>
        </p:nvPicPr>
        <p:blipFill>
          <a:blip r:embed="rId2"/>
          <a:stretch/>
        </p:blipFill>
        <p:spPr>
          <a:xfrm>
            <a:off x="2843280" y="3860640"/>
            <a:ext cx="1176120" cy="1317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6" descr="Pic3.png"/>
          <p:cNvPicPr/>
          <p:nvPr/>
        </p:nvPicPr>
        <p:blipFill>
          <a:blip r:embed="rId3"/>
          <a:stretch/>
        </p:blipFill>
        <p:spPr>
          <a:xfrm>
            <a:off x="4859280" y="3860640"/>
            <a:ext cx="1182600" cy="132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9856-6D78-44B5-877E-7822233878E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tis un tā noviet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zāķējama stie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Content Placeholder 39" descr="Pic4.png"/>
          <p:cNvPicPr/>
          <p:nvPr/>
        </p:nvPicPr>
        <p:blipFill>
          <a:blip r:embed="rId1"/>
          <a:stretch/>
        </p:blipFill>
        <p:spPr>
          <a:xfrm>
            <a:off x="4888080" y="1720800"/>
            <a:ext cx="3558960" cy="428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623D-76C2-4B4C-A72C-2B7584EBE15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88B4-DDE1-45FD-9496-94FC1F68FA9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08:57:42Z</dcterms:created>
  <dc:creator>User</dc:creator>
  <dc:description/>
  <dc:language>en-US</dc:language>
  <cp:lastModifiedBy>peterisz</cp:lastModifiedBy>
  <dcterms:modified xsi:type="dcterms:W3CDTF">2013-02-04T14:39:05Z</dcterms:modified>
  <cp:revision>108</cp:revision>
  <dc:subject/>
  <dc:title>Slide 1</dc:title>
</cp:coreProperties>
</file>