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2DF8-3D19-4B46-9F2D-0827922D7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4E32-A04A-48AA-B78D-27FBA12E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540B-F6D1-4EE5-8404-F365AB74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5B23-48AB-48D2-9764-BAA11DE36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A33BE-7DFB-4147-8E2F-DC4E9CEA4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3D55-FAAE-4F4E-8102-6CEA6BBB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FEC2-AAB1-4C2C-AA3A-0A107FB9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930A-25F3-4279-8364-BD86EA10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9B741-0443-4419-86AB-E2DA4678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245E-5B3E-40F4-AAF4-67B1B728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01BA-CD4A-438E-AC0B-C5F9AF25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1054-58F9-41D8-B75D-3A80CD20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3741-35E8-4172-B4B2-E39F7121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5DAF-0E86-4C79-AA49-AA951CE6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287E-73EE-4432-9EB1-8485A7C47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1287-D2C0-4003-9AB2-9E83C4FA1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6BFBB-F1B0-45EC-A268-F223E7CFD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F7F5-90CC-451F-887B-5FDEB957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0AD4-24E5-42C8-AB0E-8951AF6A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6DE5-4A3D-4C13-8B0C-331A404F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6A90-7924-4931-AFC7-6C1829CC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9761-60BD-4F7C-B147-519A75F4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CD47-9430-4BB7-BDA5-FCB8FF25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9A65-E720-45A8-917C-91FA2076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BCA4-3238-4C8F-A95C-8D6979979EA7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s://upload.wikimedia.org/wikipedia/lv/thumb/b/b6/Stren%C4%8Du_novads_COA.png/75px-Stren%C4%8Du_novads_COA.png"/>
          <p:cNvPicPr/>
          <p:nvPr/>
        </p:nvPicPr>
        <p:blipFill>
          <a:blip r:embed="rId2"/>
          <a:stretch/>
        </p:blipFill>
        <p:spPr>
          <a:xfrm>
            <a:off x="539640" y="404640"/>
            <a:ext cx="714600" cy="876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E0DD-1B14-4217-9406-AEE1062F1E4B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trenc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Strenč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trencunovads.lv/</a:t>
            </a:r>
            <a:r>
              <a:rPr b="0" lang="lv-LV" sz="3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 Vidzemes ziemeļaustrum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Stren&amp;ccaron;u novads"/>
          <p:cNvPicPr/>
          <p:nvPr/>
        </p:nvPicPr>
        <p:blipFill>
          <a:blip r:embed="rId1"/>
          <a:stretch/>
        </p:blipFill>
        <p:spPr>
          <a:xfrm>
            <a:off x="2627280" y="549360"/>
            <a:ext cx="4934160" cy="5000400"/>
          </a:xfrm>
          <a:prstGeom prst="rect">
            <a:avLst/>
          </a:prstGeom>
          <a:ln w="0">
            <a:noFill/>
          </a:ln>
        </p:spPr>
      </p:pic>
      <p:sp>
        <p:nvSpPr>
          <p:cNvPr id="90" name="Left Arrow 4"/>
          <p:cNvSpPr/>
          <p:nvPr/>
        </p:nvSpPr>
        <p:spPr>
          <a:xfrm rot="20580000">
            <a:off x="168120" y="3684240"/>
            <a:ext cx="2357640" cy="752400"/>
          </a:xfrm>
          <a:prstGeom prst="leftArrow">
            <a:avLst>
              <a:gd name="adj1" fmla="val 50000"/>
              <a:gd name="adj2" fmla="val 50005"/>
            </a:avLst>
          </a:prstGeom>
          <a:solidFill>
            <a:srgbClr val="e46c0a"/>
          </a:solidFill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www.daba.gov.lv/upload/Image/Ilusracijas_IADT/DL_Seda_FOTO.jpg"/>
          <p:cNvPicPr/>
          <p:nvPr/>
        </p:nvPicPr>
        <p:blipFill>
          <a:blip r:embed="rId1"/>
          <a:stretch/>
        </p:blipFill>
        <p:spPr>
          <a:xfrm>
            <a:off x="3276720" y="3357720"/>
            <a:ext cx="4762440" cy="267624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edas purv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7786800" cy="28368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ļa teritorijas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Jērcēnu pagas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lāņu pagast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bas liegums Natura 2000 teritorija, ietilpst Ziemeļvidzemes biosfēras rezervāt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static.panoramio.com/photos/large/11109814.jpg"/>
          <p:cNvPicPr/>
          <p:nvPr/>
        </p:nvPicPr>
        <p:blipFill>
          <a:blip r:embed="rId1"/>
          <a:stretch/>
        </p:blipFill>
        <p:spPr>
          <a:xfrm>
            <a:off x="2916360" y="2565360"/>
            <a:ext cx="5209920" cy="39052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Novada up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468360" y="1628640"/>
            <a:ext cx="7775640" cy="28371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Krāču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Nārve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e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V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1-03T10:57:27Z</dcterms:modified>
  <cp:revision>13</cp:revision>
  <dc:subject/>
  <dc:title>Viļānu novads</dc:title>
</cp:coreProperties>
</file>