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BE01-58C1-40AE-A9B1-4EDE1BFE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2293-EEFA-4647-8A58-598FCCE5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F876-335C-41FC-B30D-9013FEE2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6467-EB9A-4C43-9247-7F3EA781D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3A9B-9CE8-48A5-BBC9-141DCB2C2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A1A2-92E1-4975-8AE7-5F91F7CF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0584-122F-463E-AA78-B4A1BC6F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1BAC-4C46-48F9-AE72-E86C0A08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8BD2-A09D-4519-B9F2-B9798B56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B9F1-6BC6-4C80-B152-D79B7F0E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AC21-CB1C-4469-8863-8F9A7A06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66DE-4E6C-4AF4-93A5-B59DB1F7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B8F4-44A5-4C6E-95AD-43F8A59A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4D70-9D92-4C34-A69D-B7B0DF8B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EAC8-C6F4-47A1-8817-9F43C4BC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0B37-4938-444D-A76F-0404F7EA9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54FB-3774-4540-A06C-94EEFF59A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1044-3DD0-4C4B-94AF-CB3ED086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D824-32FF-46BD-9CF6-A4216D27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42D3-8D4D-440E-B109-F8208D93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D96F-B2EC-47D8-B6B1-D7F267AC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A6FB-AF67-409C-99ED-27603C33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1DF1-CF8B-4FA8-825E-9AE80F53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5D4E-1FD9-423E-8592-90BF9023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D26D-BF4C-4D25-8238-5C36A3DD47A0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s://upload.wikimedia.org/wikipedia/lv/thumb/b/b6/Stren%C4%8Du_novads_COA.png/75px-Stren%C4%8Du_novads_COA.png"/>
          <p:cNvPicPr/>
          <p:nvPr/>
        </p:nvPicPr>
        <p:blipFill>
          <a:blip r:embed="rId2"/>
          <a:stretch/>
        </p:blipFill>
        <p:spPr>
          <a:xfrm>
            <a:off x="539640" y="404640"/>
            <a:ext cx="714600" cy="876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8008-31D9-4D6A-8F41-55BC5EEE0447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renc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Strenč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trencunovads.lv/</a:t>
            </a:r>
            <a:r>
              <a:rPr b="0" lang="lv-LV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 Vidzemes ziemeļaustrum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Stren&amp;ccaron;u novads"/>
          <p:cNvPicPr/>
          <p:nvPr/>
        </p:nvPicPr>
        <p:blipFill>
          <a:blip r:embed="rId1"/>
          <a:stretch/>
        </p:blipFill>
        <p:spPr>
          <a:xfrm>
            <a:off x="2627280" y="549360"/>
            <a:ext cx="4934160" cy="5000400"/>
          </a:xfrm>
          <a:prstGeom prst="rect">
            <a:avLst/>
          </a:prstGeom>
          <a:ln w="0">
            <a:noFill/>
          </a:ln>
        </p:spPr>
      </p:pic>
      <p:sp>
        <p:nvSpPr>
          <p:cNvPr id="90" name="Left Arrow 4"/>
          <p:cNvSpPr/>
          <p:nvPr/>
        </p:nvSpPr>
        <p:spPr>
          <a:xfrm rot="20580000">
            <a:off x="168120" y="3684240"/>
            <a:ext cx="2357640" cy="7524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e46c0a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www.daba.gov.lv/upload/Image/Ilusracijas_IADT/DL_Seda_FOTO.jpg"/>
          <p:cNvPicPr/>
          <p:nvPr/>
        </p:nvPicPr>
        <p:blipFill>
          <a:blip r:embed="rId1"/>
          <a:stretch/>
        </p:blipFill>
        <p:spPr>
          <a:xfrm>
            <a:off x="3276720" y="3357720"/>
            <a:ext cx="4762440" cy="2676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edas purv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7786800" cy="28368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ļa teritorijas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Jērcēnu pagas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lāņu pagas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bas liegums Natura 2000 teritorija, ietilpst Ziemeļvidzemes biosfēras rezervāt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static.panoramio.com/photos/large/11109814.jpg"/>
          <p:cNvPicPr/>
          <p:nvPr/>
        </p:nvPicPr>
        <p:blipFill>
          <a:blip r:embed="rId1"/>
          <a:stretch/>
        </p:blipFill>
        <p:spPr>
          <a:xfrm>
            <a:off x="2916360" y="2565360"/>
            <a:ext cx="5209920" cy="39052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Novada up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468360" y="1628640"/>
            <a:ext cx="7775640" cy="28371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Krāču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Nārve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e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V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1-03T10:57:27Z</dcterms:modified>
  <cp:revision>13</cp:revision>
  <dc:subject/>
  <dc:title>Viļānu novads</dc:title>
</cp:coreProperties>
</file>