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EDC3-5476-4AA2-B531-16AEEDB6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C3B-CD2A-4107-9EAC-4C783FC3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3C40-63AC-45EF-B2C4-3E0B2F4E5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D61-24B0-4637-9705-2DF80279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84F3-D057-4EAB-9897-B66DED9C5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619E-7C3A-43DC-A80A-B6559EEE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A5DA-5AF8-4DB3-A157-168ED059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6B33-17B9-4E78-A5E6-1CF7DA52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DCCCD-F780-4537-8C1D-286D408F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64CB-90AA-43B8-B15F-462B747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6884-7B38-44E3-9771-3FCFC8B8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DC51-694E-4737-ACAE-9AFB73FA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85AB-A921-4446-BC9B-CF972D9D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0D9E-33AB-4463-AA57-AAB9A930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1DB8-F320-49E8-8114-FD0241A0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34E6-F88A-4F7A-9714-FBE44A44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228A-5381-4139-A97D-1B81D772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BF1-7AC2-4EA7-8097-5A6B4939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11C-DC49-4A1F-90B8-E50CDC24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ED8-6556-43B2-A5AB-3E9512F1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F398-F4F6-4FB4-8335-82D391F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09EC-0168-4A4A-9F91-FAA5711E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10F-A295-4C76-B3E1-AA59AF67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FE6-5240-408D-8453-E0BA2D6C0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E85C-784E-4BBF-B770-86DABE0EB71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vilani.lv/images/vilanu-novads.png"/>
          <p:cNvPicPr/>
          <p:nvPr/>
        </p:nvPicPr>
        <p:blipFill>
          <a:blip r:embed="rId2"/>
          <a:stretch/>
        </p:blipFill>
        <p:spPr>
          <a:xfrm>
            <a:off x="8101080" y="189000"/>
            <a:ext cx="738000" cy="868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E017-D281-475A-A7BF-0101D3325EC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vila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Viļān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vilanunovads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19280" y="474840"/>
            <a:ext cx="5838840" cy="5878440"/>
          </a:xfrm>
          <a:prstGeom prst="rect">
            <a:avLst/>
          </a:prstGeom>
          <a:ln w="0">
            <a:noFill/>
          </a:ln>
        </p:spPr>
      </p:pic>
      <p:sp>
        <p:nvSpPr>
          <p:cNvPr id="88" name="Left Arrow 4"/>
          <p:cNvSpPr/>
          <p:nvPr/>
        </p:nvSpPr>
        <p:spPr>
          <a:xfrm rot="19945800">
            <a:off x="347400" y="3485880"/>
            <a:ext cx="136836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00b050"/>
          </a:solidFill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atgales augstienes rietumu un ziemeļrietumu nogāz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ustrumlatvijas zemienē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Kultūras pieminekļ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vilani.lv/images/news/201401/horizontal/tsmtv9584s.jpg?v=1455621670"/>
          <p:cNvPicPr/>
          <p:nvPr/>
        </p:nvPicPr>
        <p:blipFill>
          <a:blip r:embed="rId1"/>
          <a:stretch/>
        </p:blipFill>
        <p:spPr>
          <a:xfrm>
            <a:off x="1187280" y="4292640"/>
            <a:ext cx="65534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ā atrodas vienpadsmit valsts aizsargājamie kultūras pieminekļ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ci arhitektū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ši arheoloģij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eviņi no tiem ir valsts nozī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s://upload.wikimedia.org/wikipedia/lv/thumb/f/fc/Malta_pie_Vi%C4%BC%C4%81niem.jpg/260px-Malta_pie_Vi%C4%BC%C4%81niem.jpg"/>
          <p:cNvPicPr/>
          <p:nvPr/>
        </p:nvPicPr>
        <p:blipFill>
          <a:blip r:embed="rId1"/>
          <a:stretch/>
        </p:blipFill>
        <p:spPr>
          <a:xfrm>
            <a:off x="4211640" y="1700280"/>
            <a:ext cx="4321080" cy="3241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U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539640" y="1628640"/>
            <a:ext cx="8136000" cy="399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tas u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lm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iskā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citas mazās upītes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(Kaževa, Varakļānu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trauts, Notra,</a:t>
            </a:r>
            <a:br>
              <a:rPr sz="3200"/>
            </a:b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erga, Lauza, u.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Ezeru izvieto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0-26T09:11:09Z</dcterms:modified>
  <cp:revision>12</cp:revision>
  <dc:subject/>
  <dc:title>Viļānu novads</dc:title>
</cp:coreProperties>
</file>