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FFBF-5119-46B0-A379-7AAA0D91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86D9-4E11-4F68-B632-D35D8A6E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455-9A6A-4F87-A932-09245706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A287-F938-4730-81F0-8C80D616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DC43-F26D-4D41-8BF2-21D93333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3599-68DC-4347-A5BD-0A6056AD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238F-2FBB-42F2-BA29-B64B2AF1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9920-5406-4685-925E-4CF4542B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B37F-DA58-497A-B832-F15C99C8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E906-28EB-4084-8851-C6E6867A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3359-59C4-4159-910B-4982B867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2C9-2162-45A8-BEE4-96CDF7530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634A-1A3C-4C38-A3E7-D877655F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A99C-1A84-4D5A-8239-9FD1B79E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4230-151C-4CD6-ABBD-A999C096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CF81-BAC9-42CD-9B7C-B9429862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F0790-7AB2-455C-8F17-2FDC09E8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1527-29EA-40AB-9820-F6B256AC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00A-1DB7-4070-9866-3B5B5624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197-08D4-4CFA-B909-02DEBA30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E27B-9AF0-49CF-BFF7-B144C418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C0F9-D404-4203-8636-18E93F09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A9E-E813-4883-8F9E-618A8D88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C99-3A16-47DA-879D-9D2CA937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9F76-4973-4A36-8C1E-7DBFD9176B2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http://www.plavinunovads.lv/sites/default/files/styles/large/public/images/logo_0.png?itok=yxl-tckW"/>
          <p:cNvPicPr/>
          <p:nvPr/>
        </p:nvPicPr>
        <p:blipFill>
          <a:blip r:embed="rId2"/>
          <a:stretch/>
        </p:blipFill>
        <p:spPr>
          <a:xfrm>
            <a:off x="8101080" y="260280"/>
            <a:ext cx="676080" cy="839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0863-1EC2-4B10-84C4-5E4A8AAED29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lavinunovads.lv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Pļaviņu nov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lavinunovads.lv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"/>
          <p:cNvPicPr/>
          <p:nvPr/>
        </p:nvPicPr>
        <p:blipFill>
          <a:blip r:embed="rId1"/>
          <a:stretch/>
        </p:blipFill>
        <p:spPr>
          <a:xfrm>
            <a:off x="390600" y="963720"/>
            <a:ext cx="824076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413400" cy="5918040"/>
          </a:xfrm>
          <a:prstGeom prst="rect">
            <a:avLst/>
          </a:prstGeom>
          <a:ln w="0">
            <a:noFill/>
          </a:ln>
        </p:spPr>
      </p:pic>
      <p:sp>
        <p:nvSpPr>
          <p:cNvPr id="87" name="Right Arrow 4"/>
          <p:cNvSpPr/>
          <p:nvPr/>
        </p:nvSpPr>
        <p:spPr>
          <a:xfrm rot="19883400">
            <a:off x="7092720" y="1063440"/>
            <a:ext cx="1760400" cy="752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57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vada teritorija atrod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dzemes dienvi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Daugavas labajā krast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latība km</a:t>
            </a:r>
            <a:r>
              <a:rPr b="0" lang="lv-LV" sz="4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envie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http://i.vietas.lv/userfiles/image_gal/big/17/image-17617.jpg"/>
          <p:cNvPicPr/>
          <p:nvPr/>
        </p:nvPicPr>
        <p:blipFill>
          <a:blip r:embed="rId1"/>
          <a:srcRect l="8359" t="0" r="9757" b="0"/>
          <a:stretch/>
        </p:blipFill>
        <p:spPr>
          <a:xfrm>
            <a:off x="4643280" y="1773360"/>
            <a:ext cx="3889440" cy="26748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684360" y="1700280"/>
            <a:ext cx="7127640" cy="3140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Oliņkalna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okstene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ēlpils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Pļaviņu pilskal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Draudavu senkapi ar krustakme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www.upesoga.lv/_mm/rimg/201508/608/608_55d6dcea00b2d_513.jpg"/>
          <p:cNvPicPr/>
          <p:nvPr/>
        </p:nvPicPr>
        <p:blipFill>
          <a:blip r:embed="rId1"/>
          <a:stretch/>
        </p:blipFill>
        <p:spPr>
          <a:xfrm>
            <a:off x="3635280" y="2349360"/>
            <a:ext cx="5257800" cy="3279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u teritorij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5122800" cy="45259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ļaviņu ūdenskrātu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eseta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iviekstes u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Odz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Apaļai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Līdaces ez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Ūde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1T16:03:58Z</dcterms:created>
  <dc:creator>User</dc:creator>
  <dc:description/>
  <dc:language>en-US</dc:language>
  <cp:lastModifiedBy>User</cp:lastModifiedBy>
  <dcterms:modified xsi:type="dcterms:W3CDTF">2016-11-03T11:11:33Z</dcterms:modified>
  <cp:revision>13</cp:revision>
  <dc:subject/>
  <dc:title>Viļānu novads</dc:title>
</cp:coreProperties>
</file>