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E8AD-EA41-4AEE-8BB8-B987B5E9854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pīram paredzētajā konteinerā drīkst mest biroja papīru, avīzes, grāmatas, kartona kastes un kār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0356-5831-4FEC-9492-AEAC0319E99C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F0DA-7334-4CAA-B93D-E09E9CF35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B489-61EB-481E-A8B2-8735BB14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C84F-48F6-4C14-A40D-384E43EA0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8E48-FB11-4C20-9211-33F7C66E1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C791-70EF-41CD-8776-0045C643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7949-DFF4-4C5F-AE39-A367D64A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C55A-53B6-497E-97DA-AD27DA02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686F-76EC-4216-A911-54F3F13A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EE12-6FB1-41FC-A78C-61684E77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8965-5D01-4E89-BFDD-4B9C9B72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023F-D166-4256-99F9-087D68E6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62EB-0F78-44E5-AA84-95CF3AFB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6A4D-6F17-4C6D-AC5A-9A486B964883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res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ērcēšana un 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ulpas apstrā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pīra gatav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pīra izstrādāju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s konteinerā drīkst mest tikai tīru un sausu papīra un kartona iepakoj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rtona iepakojuma kastes pirms izmešanas jāsaplac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kavu, spirāļu un līplentu atdalīšana pirms izmešanas šķirošanas konteinerā nav obligāta – tās netraucē pārstrādes procesam, jo nederīgie piemaisījumi tiek atdalīti un izfiltrē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kont_1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140360" y="2060640"/>
            <a:ext cx="331128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šķirošanas līnijas viss konteinera saturs tiek sašķirots pa dažādiem papīra veid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gstāka vērtība ir tīrām otrreizējām izejvielām bez citu materiālu piemaisījumiem, tādēļ šķirošanas līnijās papīrs tiek sašķirots pa veidiem, atdalot, piemēram, biroja papīru un gofrēto karto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res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teriālus sapresē ķīpās un nogādā uz pārstrādes uzņēmum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vijā vienīgā papīra pārstrādes rūpnīca ir papīrfabrika «Līgatne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kulatūra pārstrādei tiek vesta arī uz Lietuvu un citām valstī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s://encrypted-tbn1.gstatic.com/images?q=tbn:ANd9GcRwokDXEmj8za7er067E3fKt5w9YfRMrD8Z_9xROTwuL2hQuZyu"/>
          <p:cNvPicPr/>
          <p:nvPr/>
        </p:nvPicPr>
        <p:blipFill>
          <a:blip r:embed="rId1"/>
          <a:stretch/>
        </p:blipFill>
        <p:spPr>
          <a:xfrm>
            <a:off x="4716360" y="3284640"/>
            <a:ext cx="3672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Mērcēšana un 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77868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ilzīgā blenderī jeb hidrošķaidītājā sašķiroto papīru mērcē un sasmalcina putrveida mas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Paper-pulp-soak.jpg"/>
          <p:cNvPicPr/>
          <p:nvPr/>
        </p:nvPicPr>
        <p:blipFill>
          <a:blip r:embed="rId1"/>
          <a:stretch/>
        </p:blipFill>
        <p:spPr>
          <a:xfrm>
            <a:off x="2195640" y="2852640"/>
            <a:ext cx="496872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ulpas ap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pulpas masas vispirms atdala krāsvie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tam šķiedras balina, tīra, sijā un filtrē, līdz tās derīgas papīra ražošan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Att&amp;emacr;lu rezult&amp;amacr;ti vaic&amp;amacr;jumam “l&amp;imacr;gatnes pap&amp;imacr;rfabrika”"/>
          <p:cNvPicPr/>
          <p:nvPr/>
        </p:nvPicPr>
        <p:blipFill>
          <a:blip r:embed="rId1"/>
          <a:stretch/>
        </p:blipFill>
        <p:spPr>
          <a:xfrm>
            <a:off x="3110040" y="3959280"/>
            <a:ext cx="283824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gatav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apīra masu plānā kārtiņā klāj uz lentes, žāvē un pres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Celulozes šķiedras ir iespējams pārstrādāt līdz pat septiņām reizē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Att&amp;emacr;lu rezult&amp;amacr;ti vaic&amp;amacr;jumam “l&amp;imacr;gatnes pap&amp;imacr;rfabrika”"/>
          <p:cNvPicPr/>
          <p:nvPr/>
        </p:nvPicPr>
        <p:blipFill>
          <a:blip r:embed="rId1"/>
          <a:stretch/>
        </p:blipFill>
        <p:spPr>
          <a:xfrm>
            <a:off x="4356000" y="1916280"/>
            <a:ext cx="41864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izstrādāju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pārstrādāta papīra top gofrētā kartona kastes, ietinamais papīrs, biroja papīrs, akvareļu papīrs un citi izstrādāju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15"/>
          <p:cNvSpPr/>
          <p:nvPr/>
        </p:nvSpPr>
        <p:spPr>
          <a:xfrm rot="20785800">
            <a:off x="2122560" y="3771720"/>
            <a:ext cx="2484360" cy="1511280"/>
          </a:xfrm>
          <a:prstGeom prst="parallelogram">
            <a:avLst>
              <a:gd name="adj" fmla="val 25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arallelogram 17"/>
          <p:cNvSpPr/>
          <p:nvPr/>
        </p:nvSpPr>
        <p:spPr>
          <a:xfrm rot="5400000">
            <a:off x="3967920" y="3937680"/>
            <a:ext cx="1835280" cy="973440"/>
          </a:xfrm>
          <a:prstGeom prst="parallelogram">
            <a:avLst>
              <a:gd name="adj" fmla="val 2495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6"/>
          <p:cNvSpPr/>
          <p:nvPr/>
        </p:nvSpPr>
        <p:spPr>
          <a:xfrm>
            <a:off x="2352600" y="5051520"/>
            <a:ext cx="3029040" cy="809640"/>
          </a:xfrm>
          <a:custGeom>
            <a:avLst/>
            <a:gdLst/>
            <a:ahLst/>
            <a:rect l="l" t="t" r="r" b="b"/>
            <a:pathLst>
              <a:path w="3028013" h="809469">
                <a:moveTo>
                  <a:pt x="0" y="524656"/>
                </a:moveTo>
                <a:lnTo>
                  <a:pt x="2068642" y="0"/>
                </a:lnTo>
                <a:lnTo>
                  <a:pt x="3028013" y="284813"/>
                </a:lnTo>
                <a:lnTo>
                  <a:pt x="944380" y="809469"/>
                </a:lnTo>
                <a:lnTo>
                  <a:pt x="0" y="524656"/>
                </a:lnTo>
                <a:close/>
              </a:path>
            </a:pathLst>
          </a:custGeom>
          <a:solidFill>
            <a:srgbClr val="17375e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arallelogram 18"/>
          <p:cNvSpPr/>
          <p:nvPr/>
        </p:nvSpPr>
        <p:spPr>
          <a:xfrm rot="20785800">
            <a:off x="3120840" y="4044600"/>
            <a:ext cx="2484360" cy="1512720"/>
          </a:xfrm>
          <a:prstGeom prst="parallelogram">
            <a:avLst>
              <a:gd name="adj" fmla="val 24992"/>
            </a:avLst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18:42Z</dcterms:modified>
  <cp:revision>28</cp:revision>
  <dc:subject/>
  <dc:title>Papīra pārstrāde</dc:title>
</cp:coreProperties>
</file>