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37D1-7079-46F6-AF8E-28A22FD7A4BA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apīram paredzētajā konteinerā drīkst mest papīru, avīzes, grāmatas, kartona kastes un kārb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194F-74DD-400B-966A-49CB09FB7FA8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8A02-FE57-4966-B6B0-D3CC4A144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BB15-8546-4C33-B725-F7C86676E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CE0E-D464-4440-A05B-2D5D92400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D3D6-CE97-486A-87A6-CDE02F474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85EB-8BFC-4CCE-9483-AD7DA0A7B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3784-99B1-4457-9927-5C335C776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292A-8DB3-4B29-98D6-B8CDF7C8A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F213-9482-45D8-B6D3-2E02178EC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BFF5-ACAE-4FE7-B3BB-E113E90C0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0AD3-36EC-4F26-8CE4-5ACC641F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1A11-09DF-471E-8873-621D33F0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9D55-6FE0-4F3E-B4A3-267A3FA4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68D41-041A-434D-8513-33E0DE0CE9EF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tikla pārstrā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strādes cik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āršķirošana un svešķermeņu atdalī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malcinā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ausē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Jauna iepakojuma izgatav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Freeform 6"/>
          <p:cNvSpPr/>
          <p:nvPr/>
        </p:nvSpPr>
        <p:spPr>
          <a:xfrm>
            <a:off x="6229440" y="2457360"/>
            <a:ext cx="1066680" cy="762120"/>
          </a:xfrm>
          <a:custGeom>
            <a:avLst/>
            <a:gdLst/>
            <a:ahLst/>
            <a:rect l="l" t="t" r="r" b="b"/>
            <a:pathLst>
              <a:path w="1066800" h="762000">
                <a:moveTo>
                  <a:pt x="0" y="0"/>
                </a:moveTo>
                <a:lnTo>
                  <a:pt x="714375" y="9525"/>
                </a:lnTo>
                <a:lnTo>
                  <a:pt x="876300" y="323850"/>
                </a:lnTo>
                <a:lnTo>
                  <a:pt x="1066800" y="238125"/>
                </a:lnTo>
                <a:lnTo>
                  <a:pt x="781050" y="723900"/>
                </a:lnTo>
                <a:lnTo>
                  <a:pt x="209550" y="762000"/>
                </a:lnTo>
                <a:lnTo>
                  <a:pt x="438150" y="647700"/>
                </a:lnTo>
                <a:lnTo>
                  <a:pt x="4762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7"/>
          <p:cNvSpPr/>
          <p:nvPr/>
        </p:nvSpPr>
        <p:spPr>
          <a:xfrm>
            <a:off x="6858000" y="3181320"/>
            <a:ext cx="743040" cy="809640"/>
          </a:xfrm>
          <a:custGeom>
            <a:avLst/>
            <a:gdLst/>
            <a:ahLst/>
            <a:rect l="l" t="t" r="r" b="b"/>
            <a:pathLst>
              <a:path w="742950" h="809625">
                <a:moveTo>
                  <a:pt x="0" y="295275"/>
                </a:moveTo>
                <a:lnTo>
                  <a:pt x="476250" y="0"/>
                </a:lnTo>
                <a:lnTo>
                  <a:pt x="733425" y="476250"/>
                </a:lnTo>
                <a:lnTo>
                  <a:pt x="742950" y="609600"/>
                </a:lnTo>
                <a:lnTo>
                  <a:pt x="685800" y="723900"/>
                </a:lnTo>
                <a:lnTo>
                  <a:pt x="581025" y="790575"/>
                </a:lnTo>
                <a:lnTo>
                  <a:pt x="381000" y="809625"/>
                </a:lnTo>
                <a:lnTo>
                  <a:pt x="266700" y="809625"/>
                </a:lnTo>
                <a:lnTo>
                  <a:pt x="0" y="29527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8"/>
          <p:cNvSpPr/>
          <p:nvPr/>
        </p:nvSpPr>
        <p:spPr>
          <a:xfrm>
            <a:off x="6477120" y="3886200"/>
            <a:ext cx="1028520" cy="952560"/>
          </a:xfrm>
          <a:custGeom>
            <a:avLst/>
            <a:gdLst/>
            <a:ahLst/>
            <a:rect l="l" t="t" r="r" b="b"/>
            <a:pathLst>
              <a:path w="1028700" h="952500">
                <a:moveTo>
                  <a:pt x="1028700" y="123825"/>
                </a:moveTo>
                <a:lnTo>
                  <a:pt x="981075" y="219075"/>
                </a:lnTo>
                <a:lnTo>
                  <a:pt x="276225" y="200025"/>
                </a:lnTo>
                <a:lnTo>
                  <a:pt x="266700" y="0"/>
                </a:lnTo>
                <a:lnTo>
                  <a:pt x="0" y="457200"/>
                </a:lnTo>
                <a:lnTo>
                  <a:pt x="266700" y="952500"/>
                </a:lnTo>
                <a:lnTo>
                  <a:pt x="276225" y="762000"/>
                </a:lnTo>
                <a:lnTo>
                  <a:pt x="695325" y="733425"/>
                </a:lnTo>
                <a:lnTo>
                  <a:pt x="1028700" y="123825"/>
                </a:lnTo>
                <a:close/>
              </a:path>
            </a:pathLst>
          </a:custGeom>
          <a:solidFill>
            <a:srgbClr val="bfbfbf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9"/>
          <p:cNvSpPr/>
          <p:nvPr/>
        </p:nvSpPr>
        <p:spPr>
          <a:xfrm>
            <a:off x="5286240" y="4029120"/>
            <a:ext cx="1038240" cy="619200"/>
          </a:xfrm>
          <a:custGeom>
            <a:avLst/>
            <a:gdLst/>
            <a:ahLst/>
            <a:rect l="l" t="t" r="r" b="b"/>
            <a:pathLst>
              <a:path w="1038225" h="619125">
                <a:moveTo>
                  <a:pt x="0" y="0"/>
                </a:moveTo>
                <a:lnTo>
                  <a:pt x="361950" y="619125"/>
                </a:lnTo>
                <a:lnTo>
                  <a:pt x="1038225" y="619125"/>
                </a:lnTo>
                <a:lnTo>
                  <a:pt x="1028700" y="38100"/>
                </a:lnTo>
                <a:lnTo>
                  <a:pt x="2857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10"/>
          <p:cNvSpPr/>
          <p:nvPr/>
        </p:nvSpPr>
        <p:spPr>
          <a:xfrm>
            <a:off x="5172120" y="3305160"/>
            <a:ext cx="847800" cy="685800"/>
          </a:xfrm>
          <a:custGeom>
            <a:avLst/>
            <a:gdLst/>
            <a:ahLst/>
            <a:rect l="l" t="t" r="r" b="b"/>
            <a:pathLst>
              <a:path w="847725" h="685800">
                <a:moveTo>
                  <a:pt x="28575" y="0"/>
                </a:moveTo>
                <a:lnTo>
                  <a:pt x="581025" y="9525"/>
                </a:lnTo>
                <a:lnTo>
                  <a:pt x="847725" y="466725"/>
                </a:lnTo>
                <a:lnTo>
                  <a:pt x="685800" y="390525"/>
                </a:lnTo>
                <a:lnTo>
                  <a:pt x="476250" y="666750"/>
                </a:lnTo>
                <a:lnTo>
                  <a:pt x="333375" y="685800"/>
                </a:lnTo>
                <a:lnTo>
                  <a:pt x="180975" y="657225"/>
                </a:lnTo>
                <a:lnTo>
                  <a:pt x="95250" y="590550"/>
                </a:lnTo>
                <a:lnTo>
                  <a:pt x="57150" y="485775"/>
                </a:lnTo>
                <a:lnTo>
                  <a:pt x="0" y="371475"/>
                </a:lnTo>
                <a:lnTo>
                  <a:pt x="180975" y="114300"/>
                </a:lnTo>
                <a:lnTo>
                  <a:pt x="28575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reeform 11"/>
          <p:cNvSpPr/>
          <p:nvPr/>
        </p:nvSpPr>
        <p:spPr>
          <a:xfrm>
            <a:off x="5562720" y="2486160"/>
            <a:ext cx="780840" cy="847440"/>
          </a:xfrm>
          <a:custGeom>
            <a:avLst/>
            <a:gdLst/>
            <a:ahLst/>
            <a:rect l="l" t="t" r="r" b="b"/>
            <a:pathLst>
              <a:path w="781050" h="847725">
                <a:moveTo>
                  <a:pt x="0" y="533400"/>
                </a:moveTo>
                <a:lnTo>
                  <a:pt x="285750" y="9525"/>
                </a:lnTo>
                <a:lnTo>
                  <a:pt x="561975" y="0"/>
                </a:lnTo>
                <a:lnTo>
                  <a:pt x="676275" y="114300"/>
                </a:lnTo>
                <a:lnTo>
                  <a:pt x="781050" y="285750"/>
                </a:lnTo>
                <a:lnTo>
                  <a:pt x="485775" y="847725"/>
                </a:lnTo>
                <a:lnTo>
                  <a:pt x="0" y="5334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Zaļajā konteinerā drīkst mest tikai stikla iepakojumu – pudeles un burk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onteinerā drīkst mest tikai tīru iepakojum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av nepieciešams iepakojumu mazgāt ar trauku mazgāšanas līdzekli – pietiks, ja to rūpīgi izskalos ar ūde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kont_3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392720" y="2095560"/>
            <a:ext cx="359712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Calibri"/>
              </a:rPr>
              <a:t>Pāršķirošana un svešķermeņu atdalīša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zmantojot mūsdienīgas šķirošanas līnijas, stiklu ir iespējams sašķirot pa krāsā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s līnijās automatizētā procesā tiek atdalīti dažādi piemaisījumi, piemēram, metāls, keramika, akmeņi u.tm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://www.acedisposal.com/wp-content/uploads/2014/06/glass-2-300x225.jpg"/>
          <p:cNvPicPr/>
          <p:nvPr/>
        </p:nvPicPr>
        <p:blipFill>
          <a:blip r:embed="rId1"/>
          <a:stretch/>
        </p:blipFill>
        <p:spPr>
          <a:xfrm>
            <a:off x="2778120" y="438300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malcinā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69520" y="1599840"/>
            <a:ext cx="7674120" cy="46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Tīrais stikla iepakojums tiek sasmalcinā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Latvijā sašķirotais stikla iepakojums nonāk pārstrādes rūpnīcās Lietuvā un Ukrain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http://www.return-it.ca/images/Green-Bottle-Cullet.jpg"/>
          <p:cNvPicPr/>
          <p:nvPr/>
        </p:nvPicPr>
        <p:blipFill>
          <a:blip r:embed="rId1"/>
          <a:stretch/>
        </p:blipFill>
        <p:spPr>
          <a:xfrm>
            <a:off x="4842000" y="2014560"/>
            <a:ext cx="37573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Kaus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7951680" cy="32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asmalcinātais stikls tiek izkausēts milzīgā krāsnī un sajaukts ar pirmreizējām stikla izejvielā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tikla ražošanai izmanto kvarca smiltis, sodu un kaļķakmeni, bet 30–40% no kopējās izejvielu masas aizvietojot ar otrreizēji pārstrādātu materiāl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http://www.agc-glass.eu/01/MyImages/2260new.jpg"/>
          <p:cNvPicPr/>
          <p:nvPr/>
        </p:nvPicPr>
        <p:blipFill>
          <a:blip r:embed="rId1"/>
          <a:stretch/>
        </p:blipFill>
        <p:spPr>
          <a:xfrm>
            <a:off x="2389320" y="4067280"/>
            <a:ext cx="420660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Jauna iepakojuma izgatav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</a:rPr>
              <a:t>No viendabīgās stikla masas ražo jaunu stikla iepakojum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</a:rPr>
              <a:t>No pārstrādāta materiāla gatavotai pudelei ir tāda pati kvalitāte kā tai, kas ražota no smiltī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AutoShape 8"/>
          <p:cNvSpPr/>
          <p:nvPr/>
        </p:nvSpPr>
        <p:spPr>
          <a:xfrm>
            <a:off x="155520" y="-868320"/>
            <a:ext cx="1238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AutoShape 10"/>
          <p:cNvSpPr/>
          <p:nvPr/>
        </p:nvSpPr>
        <p:spPr>
          <a:xfrm>
            <a:off x="155520" y="-868320"/>
            <a:ext cx="1238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AutoShape 12"/>
          <p:cNvSpPr/>
          <p:nvPr/>
        </p:nvSpPr>
        <p:spPr>
          <a:xfrm>
            <a:off x="155520" y="-868320"/>
            <a:ext cx="1238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utoShape 14"/>
          <p:cNvSpPr/>
          <p:nvPr/>
        </p:nvSpPr>
        <p:spPr>
          <a:xfrm>
            <a:off x="155520" y="-868320"/>
            <a:ext cx="1238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utoShape 2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1" descr="m3.png"/>
          <p:cNvPicPr/>
          <p:nvPr/>
        </p:nvPicPr>
        <p:blipFill>
          <a:blip r:embed="rId1"/>
          <a:stretch/>
        </p:blipFill>
        <p:spPr>
          <a:xfrm>
            <a:off x="3762360" y="3768840"/>
            <a:ext cx="1498680" cy="2433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4" descr="m4.png"/>
          <p:cNvPicPr/>
          <p:nvPr/>
        </p:nvPicPr>
        <p:blipFill>
          <a:blip r:embed="rId2"/>
          <a:stretch/>
        </p:blipFill>
        <p:spPr>
          <a:xfrm>
            <a:off x="1623960" y="4145040"/>
            <a:ext cx="1309680" cy="1981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5" descr="m5.png"/>
          <p:cNvPicPr/>
          <p:nvPr/>
        </p:nvPicPr>
        <p:blipFill>
          <a:blip r:embed="rId3"/>
          <a:stretch/>
        </p:blipFill>
        <p:spPr>
          <a:xfrm>
            <a:off x="6211800" y="4152960"/>
            <a:ext cx="1352520" cy="2039760"/>
          </a:xfrm>
          <a:prstGeom prst="rect">
            <a:avLst/>
          </a:prstGeom>
          <a:ln w="0">
            <a:noFill/>
          </a:ln>
        </p:spPr>
      </p:pic>
      <p:sp>
        <p:nvSpPr>
          <p:cNvPr id="81" name="Oval 26"/>
          <p:cNvSpPr/>
          <p:nvPr/>
        </p:nvSpPr>
        <p:spPr>
          <a:xfrm>
            <a:off x="1793880" y="4227480"/>
            <a:ext cx="974880" cy="284040"/>
          </a:xfrm>
          <a:prstGeom prst="ellipse">
            <a:avLst/>
          </a:pr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val 27"/>
          <p:cNvSpPr/>
          <p:nvPr/>
        </p:nvSpPr>
        <p:spPr>
          <a:xfrm>
            <a:off x="6408720" y="4245120"/>
            <a:ext cx="974880" cy="25848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udeļu izgatavošan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ā sauktajā pudeļmašīnā 1200°C temperatūrā īpašās formās top stikla pude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ad pudeles gatavas, tās lēnām atdziest jeb norūdā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ēc rūdīšanas pudeles aizceļo uz šķirošanu, kur tās automātiski pārbau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Brāķētās pudeles atgriežas kausēšanas krāsnī, veselās tiek iepakotas vakuumā un nosūtītas pudeļu pildītāji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10:30:24Z</dcterms:created>
  <dc:creator>User</dc:creator>
  <dc:description/>
  <dc:language>en-US</dc:language>
  <cp:lastModifiedBy>Admin</cp:lastModifiedBy>
  <dcterms:modified xsi:type="dcterms:W3CDTF">2015-04-17T11:33:22Z</dcterms:modified>
  <cp:revision>38</cp:revision>
  <dc:subject/>
  <dc:title>Papīra pārstrāde</dc:title>
</cp:coreProperties>
</file>