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52E1-D61E-43E9-9718-08FB3D613C6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72B1-69ED-4576-995A-52A2B3FD5F5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DF48-ABCC-4373-B922-72AD522D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96DD-155D-443A-BBA7-CA26CF07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AD30-DC9A-42F5-8985-986CDD01F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62B7-9C98-4D10-9A3B-F662A030E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A6FC-A110-49E7-8D95-23D2B766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1383-2135-4CAE-8F23-66C76309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9A3D-E639-41C7-B7AB-1761BCE2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10AD-CF51-4A45-A9F5-84BE80B0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B7C9-1DFB-4121-B63D-29827FC1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363B-CF3B-4344-B40B-67A2A075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4C96-185B-4F87-86ED-2929B8A8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070A-711F-41D2-9C7D-3252B1C9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E122-9B66-4632-BAD2-0A4100A32D0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tikl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bfbfb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aļajā konteinerā drīkst mest tikai stikla iepakojumu – pudeles un burk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av nepieciešams iepakojumu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kont_3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392720" y="2095560"/>
            <a:ext cx="35971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mantojot mūsdienīgas šķirošanas līnijas, stiklu ir iespējams sašķirot pa krāsā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līnijās automatizētā procesā tiek atdalīti dažādi piemaisījumi, piemēram, metāls, keramika, akmeņi u.tm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acedisposal.com/wp-content/uploads/2014/06/glass-2-300x225.jpg"/>
          <p:cNvPicPr/>
          <p:nvPr/>
        </p:nvPicPr>
        <p:blipFill>
          <a:blip r:embed="rId1"/>
          <a:stretch/>
        </p:blipFill>
        <p:spPr>
          <a:xfrm>
            <a:off x="2778120" y="4383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69520" y="1599840"/>
            <a:ext cx="7674120" cy="46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Tīrais stikla iepakojums tiek sasmalcinā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atvijā sašķirotais stikla iepakojums nonāk pārstrādes rūpnīcās Lietuvā un Ukrain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www.return-it.ca/images/Green-Bottle-Cullet.jpg"/>
          <p:cNvPicPr/>
          <p:nvPr/>
        </p:nvPicPr>
        <p:blipFill>
          <a:blip r:embed="rId1"/>
          <a:stretch/>
        </p:blipFill>
        <p:spPr>
          <a:xfrm>
            <a:off x="4842000" y="2014560"/>
            <a:ext cx="37573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795168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asmalcinātais stikls tiek izkausēts milzīgā krāsnī un sajaukts ar pirmreizējām stikla izejvielā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tikla ražošanai izmanto kvarca smiltis, sodu un kaļķakmeni, bet 30–40% no kopējās izejvielu masas aizvietojot ar otrreizēji pārstrādātu materiā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agc-glass.eu/01/MyImages/2260new.jpg"/>
          <p:cNvPicPr/>
          <p:nvPr/>
        </p:nvPicPr>
        <p:blipFill>
          <a:blip r:embed="rId1"/>
          <a:stretch/>
        </p:blipFill>
        <p:spPr>
          <a:xfrm>
            <a:off x="2389320" y="4067280"/>
            <a:ext cx="42066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viendabīgās stikla masas ražo jaunu stikla iepakojum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pārstrādāta materiāla gatavotai pudelei ir tāda pati kvalitāte kā tai, kas ražota no smiltī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1" descr="m3.png"/>
          <p:cNvPicPr/>
          <p:nvPr/>
        </p:nvPicPr>
        <p:blipFill>
          <a:blip r:embed="rId1"/>
          <a:stretch/>
        </p:blipFill>
        <p:spPr>
          <a:xfrm>
            <a:off x="3762360" y="3768840"/>
            <a:ext cx="1498680" cy="2433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m4.png"/>
          <p:cNvPicPr/>
          <p:nvPr/>
        </p:nvPicPr>
        <p:blipFill>
          <a:blip r:embed="rId2"/>
          <a:stretch/>
        </p:blipFill>
        <p:spPr>
          <a:xfrm>
            <a:off x="1623960" y="4145040"/>
            <a:ext cx="1309680" cy="1981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m5.png"/>
          <p:cNvPicPr/>
          <p:nvPr/>
        </p:nvPicPr>
        <p:blipFill>
          <a:blip r:embed="rId3"/>
          <a:stretch/>
        </p:blipFill>
        <p:spPr>
          <a:xfrm>
            <a:off x="6211800" y="4152960"/>
            <a:ext cx="1352520" cy="2039760"/>
          </a:xfrm>
          <a:prstGeom prst="rect">
            <a:avLst/>
          </a:prstGeom>
          <a:ln w="0">
            <a:noFill/>
          </a:ln>
        </p:spPr>
      </p:pic>
      <p:sp>
        <p:nvSpPr>
          <p:cNvPr id="81" name="Oval 26"/>
          <p:cNvSpPr/>
          <p:nvPr/>
        </p:nvSpPr>
        <p:spPr>
          <a:xfrm>
            <a:off x="1793880" y="4227480"/>
            <a:ext cx="974880" cy="28404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val 27"/>
          <p:cNvSpPr/>
          <p:nvPr/>
        </p:nvSpPr>
        <p:spPr>
          <a:xfrm>
            <a:off x="6408720" y="4245120"/>
            <a:ext cx="974880" cy="25848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deļu izgatavoša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ā sauktajā pudeļmašīnā 1200°C temperatūrā īpašās formās top stikla pude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d pudeles gatavas, tās lēnām atdziest jeb norūdā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rūdīšanas pudeles aizceļo uz šķirošanu, kur tās automātiski pārbau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āķētās pudeles atgriežas kausēšanas krāsnī, veselās tiek iepakotas vakuumā un nosūtītas pudeļu pildītāj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3:22Z</dcterms:modified>
  <cp:revision>38</cp:revision>
  <dc:subject/>
  <dc:title>Papīra pārstrāde</dc:title>
</cp:coreProperties>
</file>