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47E9-535E-4B48-8C86-CC7F7474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F0E1-6E5A-4D8B-AE5E-80DBB0B4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9E0A-B1E8-47F7-8A7B-DDF14EEA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7A0F-AC57-4506-A710-7A3A107A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7D04-65F2-4E6A-A2D8-15B82B34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A618-459E-4F7C-BEB8-3FD548D4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5111-4DBA-466A-8EA5-203FC33D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FC75-F699-4AAF-A900-D1666D79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9FE5-AA90-480B-A511-67241758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0B25-EF60-4FCE-8762-F0C8EA66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BF59-9A68-490C-AE40-FA07E9B9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BF5B-BE62-4971-991D-0207F117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9470-025E-45E1-8CFA-3D31099881FA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050920" y="4762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ārlūkprogramma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4"/>
          <p:cNvSpPr/>
          <p:nvPr/>
        </p:nvSpPr>
        <p:spPr>
          <a:xfrm>
            <a:off x="1619280" y="476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ultivides lietotne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4" name="Picture 15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53578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900000" y="2743560"/>
            <a:ext cx="74422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ārlūkprogramma paredzēta globālā tīmekļa dokumentu apskatī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187280" y="1916280"/>
            <a:ext cx="664236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ultivides lietotne paredzēta attēlu apskatīšanai, filmu rādīšanai, mūzikas atskaņo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9:38:33Z</dcterms:created>
  <dc:creator>gennady</dc:creator>
  <dc:description/>
  <dc:language>en-US</dc:language>
  <cp:lastModifiedBy>person</cp:lastModifiedBy>
  <dcterms:modified xsi:type="dcterms:W3CDTF">2009-11-28T12:13:46Z</dcterms:modified>
  <cp:revision>35</cp:revision>
  <dc:subject/>
  <dc:title>Slide 1</dc:title>
</cp:coreProperties>
</file>